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E2D-3363-422F-98F0-E75BEFFD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0B6-1BE2-452F-B5F3-0CD6935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BA3-8071-463B-BCDC-CD4E62DC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2B6-B742-4BEE-B637-BED84AD2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E6F-3B4D-4C7B-AB00-BDFACF67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58D-06F7-45EB-8963-7D6EE268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01E-EF84-4E7D-818E-24389FB4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4A6-F7BE-4B21-AAFF-6B0087C5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288-85BF-4338-8877-0DDE8FAC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FE9-7583-401A-BE62-2BDBD6E7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F58-0DB4-4DF8-9BC7-4B244E8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328-9A01-4AA2-B5FF-71F2996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CEFB-DC80-4119-8484-C3514B25B5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C67A-0A3F-4934-A991-31B04C61B8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92280" y="228600"/>
            <a:ext cx="769608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STATO MAGGIORE AERONAUTICA</a:t>
            </a:r>
            <a:br>
              <a:rPr sz="3000"/>
            </a:br>
            <a:r>
              <a:rPr b="1" lang="it-IT" sz="3000" spc="-1" strike="noStrike">
                <a:solidFill>
                  <a:srgbClr val="ffff00"/>
                </a:solidFill>
                <a:latin typeface="Times New Roman"/>
              </a:rPr>
              <a:t>1° Repar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50920" y="4450320"/>
            <a:ext cx="864216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99"/>
                </a:solidFill>
                <a:latin typeface="Arial"/>
              </a:rPr>
              <a:t>INCONTRO CON OO.SS. NAZIONA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99"/>
                </a:solidFill>
                <a:latin typeface="Arial"/>
              </a:rPr>
              <a:t>PUNTO DI SITU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99"/>
                </a:solidFill>
                <a:latin typeface="Arial"/>
              </a:rPr>
              <a:t>13 Novembre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4" descr="stemmagif"/>
          <p:cNvPicPr/>
          <p:nvPr/>
        </p:nvPicPr>
        <p:blipFill>
          <a:blip r:embed="rId1"/>
          <a:stretch/>
        </p:blipFill>
        <p:spPr>
          <a:xfrm>
            <a:off x="3281400" y="1676520"/>
            <a:ext cx="251460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E160-2F04-4479-98B7-55AAE3FD13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3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50920" y="2616120"/>
            <a:ext cx="86421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 u="sng">
                <a:solidFill>
                  <a:srgbClr val="ff9900"/>
                </a:solidFill>
                <a:uFillTx/>
                <a:latin typeface="Times New Roman"/>
              </a:rPr>
              <a:t>Provvedimenti da Attu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Trasferimento dell’83° Centro SAR sulla Base di Cervia fasato con la dismissione del velivolo F-16 e con la soppressione (DLgs 253/05) del Distaccamento aeroportuale di Rimi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Operatività del Centro sul nuovo sedime dal  novembre 2010 (NO CIVIL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47640" y="26028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Progetto di  Riordino della F.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Esiti Lavori G.d.P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28680" y="1484280"/>
            <a:ext cx="8564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locazione 83° CSAR su Cer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3ED5-B018-4AA7-BE4E-5F002DFEBC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Ancona, Comiso, Napoli, Treviso, Montichiari, Catania, Rimini, Palermo Boccadifalco, Vicenza, Verona, Udine Campoformido, Roma Ciampino, Brindisi, Cagliari Elmas, Cap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cc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ff33"/>
                </a:solidFill>
                <a:latin typeface="Times New Roman"/>
              </a:rPr>
              <a:t>La firma del Decreto interministeriale per il cambio di status dei predetti aeroporti non avrà ripercussioni sul personale civile che continuerà a permanere presso gli Enti/Reparti AM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71640" y="18900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Aeroporti in dismissi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24000" y="1123920"/>
            <a:ext cx="8642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Protocollo d’Intesa 14 ottobre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cambio status aeroporti milita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3A96-F28A-495F-82E8-F560995ECD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971640" y="18900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Aeroporti in dismissi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1643040"/>
            <a:ext cx="91440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457200" indent="-457200">
              <a:lnSpc>
                <a:spcPct val="115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ncona, Brescia Montichiari, Catania, Palermo Boccadifalco, Udine Campoformido, Capua, Comiso: </a:t>
            </a:r>
            <a:r>
              <a:rPr b="1" lang="it-IT" sz="2600" spc="-1" strike="noStrike">
                <a:solidFill>
                  <a:srgbClr val="ffff66"/>
                </a:solidFill>
                <a:latin typeface="Times New Roman"/>
              </a:rPr>
              <a:t>Cambio Status già attuato con cessione intero sedim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Vicenza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600" spc="-1" strike="noStrike">
                <a:solidFill>
                  <a:srgbClr val="ffff66"/>
                </a:solidFill>
                <a:latin typeface="Times New Roman"/>
              </a:rPr>
              <a:t>(C.S. già attuato cessione sedime Av Civ/U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488"/>
              </a:spcBef>
              <a:spcAft>
                <a:spcPts val="488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Cagliari Elmas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, Verona Villafranca, </a:t>
            </a: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Brindisi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, Napoli Capodichino, Treviso S. Angelo: </a:t>
            </a:r>
            <a:r>
              <a:rPr b="1" lang="it-IT" sz="2600" spc="-1" strike="noStrike">
                <a:solidFill>
                  <a:srgbClr val="ffff66"/>
                </a:solidFill>
                <a:latin typeface="Times New Roman"/>
              </a:rPr>
              <a:t>Cambio Status già attuato con cessione dei soli servizi di gestione aeroportuale (pista, servizi del traffico aereo e met.), </a:t>
            </a:r>
            <a:r>
              <a:rPr b="1" i="1" lang="it-IT" sz="2600" spc="-1" strike="noStrike" u="sng">
                <a:solidFill>
                  <a:srgbClr val="ffff66"/>
                </a:solidFill>
                <a:uFillTx/>
                <a:latin typeface="Times New Roman"/>
              </a:rPr>
              <a:t>immutata presenza AM</a:t>
            </a:r>
            <a:r>
              <a:rPr b="1" lang="it-IT" sz="2600" spc="-1" strike="noStrike">
                <a:solidFill>
                  <a:srgbClr val="ffff66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Ciampino, </a:t>
            </a: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Rimini </a:t>
            </a:r>
            <a:r>
              <a:rPr b="1" lang="it-IT" sz="2600" spc="-1" strike="noStrike">
                <a:solidFill>
                  <a:srgbClr val="ffff66"/>
                </a:solidFill>
                <a:latin typeface="Times New Roman"/>
              </a:rPr>
              <a:t>Cambio Status previsto per la fine dell’anno in corso (solo servizi di gestione aeroportuale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556000" y="981000"/>
            <a:ext cx="597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i="1" lang="it-IT" sz="3200" spc="-1" strike="noStrike" u="sng">
                <a:solidFill>
                  <a:srgbClr val="ffff66"/>
                </a:solidFill>
                <a:uFillTx/>
                <a:latin typeface="Times New Roman"/>
              </a:rPr>
              <a:t>Punto di situazione nov 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12EC-418A-4E2B-A40B-2C26EFD7C1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Italian fla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-3240" y="6480"/>
            <a:ext cx="9161640" cy="6851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Senza titolo-1"/>
          <p:cNvPicPr/>
          <p:nvPr/>
        </p:nvPicPr>
        <p:blipFill>
          <a:blip r:embed="rId2"/>
          <a:stretch/>
        </p:blipFill>
        <p:spPr>
          <a:xfrm>
            <a:off x="384120" y="3141720"/>
            <a:ext cx="3073320" cy="3672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4"/>
          <p:cNvSpPr txBox="1"/>
          <p:nvPr/>
        </p:nvSpPr>
        <p:spPr>
          <a:xfrm>
            <a:off x="1785960" y="1214280"/>
            <a:ext cx="5649840" cy="12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E 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8DCE-D9D2-44F3-970E-147E9E6D51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69960" y="549000"/>
            <a:ext cx="5975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SCO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stemmagif"/>
          <p:cNvPicPr/>
          <p:nvPr/>
        </p:nvPicPr>
        <p:blipFill>
          <a:blip r:embed="rId1"/>
          <a:stretch/>
        </p:blipFill>
        <p:spPr>
          <a:xfrm>
            <a:off x="114480" y="533520"/>
            <a:ext cx="10285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39640" y="2593800"/>
            <a:ext cx="806472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457200" algn="ctr">
              <a:lnSpc>
                <a:spcPct val="135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Fornire il punto di situazione sui principali lavori di riorganizzazione della F.A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0490-680D-4CDB-AFAA-5E10C8833F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985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RISTRUTTURAZIONE A.M.</a:t>
            </a:r>
            <a:br>
              <a:rPr sz="4000"/>
            </a:br>
            <a:r>
              <a:rPr b="1" lang="it-IT" sz="4000" spc="-1" strike="noStrike" u="sng">
                <a:solidFill>
                  <a:srgbClr val="ffff00"/>
                </a:solidFill>
                <a:uFillTx/>
                <a:latin typeface="Times New Roman"/>
              </a:rPr>
              <a:t>Percorsi Ordinativ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4146480"/>
            <a:ext cx="8820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457200" indent="-457200" algn="just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4" descr="stemmagif"/>
          <p:cNvPicPr/>
          <p:nvPr/>
        </p:nvPicPr>
        <p:blipFill>
          <a:blip r:embed="rId1"/>
          <a:stretch/>
        </p:blipFill>
        <p:spPr>
          <a:xfrm>
            <a:off x="114480" y="533520"/>
            <a:ext cx="102852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 rot="19163400">
            <a:off x="-183960" y="3327120"/>
            <a:ext cx="48960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.Lgs. 253/05 e 464/9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WordArt 6"/>
          <p:cNvSpPr txBox="1"/>
          <p:nvPr/>
        </p:nvSpPr>
        <p:spPr>
          <a:xfrm rot="3903600">
            <a:off x="4129200" y="3165840"/>
            <a:ext cx="522756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getto Riordino Tricarico/Campori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SION A.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144360" y="1483920"/>
            <a:ext cx="3564000" cy="331164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8"/>
          <p:cNvSpPr/>
          <p:nvPr/>
        </p:nvSpPr>
        <p:spPr>
          <a:xfrm flipV="1">
            <a:off x="1979640" y="1773000"/>
            <a:ext cx="2521080" cy="482436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9"/>
          <p:cNvSpPr/>
          <p:nvPr/>
        </p:nvSpPr>
        <p:spPr>
          <a:xfrm flipH="1" flipV="1">
            <a:off x="4859280" y="1628280"/>
            <a:ext cx="2376720" cy="5040360"/>
          </a:xfrm>
          <a:prstGeom prst="line">
            <a:avLst/>
          </a:prstGeom>
          <a:ln w="82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5580000" y="1483920"/>
            <a:ext cx="3384720" cy="3313080"/>
          </a:xfrm>
          <a:prstGeom prst="line">
            <a:avLst/>
          </a:prstGeom>
          <a:ln w="82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94E0-D829-4F7B-AE6E-CACEE7FA30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69960" y="549000"/>
            <a:ext cx="5975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SCO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temmagif"/>
          <p:cNvPicPr/>
          <p:nvPr/>
        </p:nvPicPr>
        <p:blipFill>
          <a:blip r:embed="rId1"/>
          <a:stretch/>
        </p:blipFill>
        <p:spPr>
          <a:xfrm>
            <a:off x="114480" y="533520"/>
            <a:ext cx="10285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79280" y="1916280"/>
            <a:ext cx="873468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457200">
              <a:lnSpc>
                <a:spcPct val="135000"/>
              </a:lnSpc>
              <a:spcBef>
                <a:spcPts val="2251"/>
              </a:spcBef>
              <a:spcAft>
                <a:spcPts val="224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DLgs 253/05 provvedimenti da attuare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5000"/>
              </a:lnSpc>
              <a:spcBef>
                <a:spcPts val="2251"/>
              </a:spcBef>
              <a:spcAft>
                <a:spcPts val="224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Progetti di riordino in itinere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5000"/>
              </a:lnSpc>
              <a:spcBef>
                <a:spcPts val="2251"/>
              </a:spcBef>
              <a:spcAft>
                <a:spcPts val="224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Aeroporti in dismiss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8151-367E-42AD-8DE2-8FC95BBCD9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5629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D.LGS. 253/2005</a:t>
            </a:r>
            <a:br>
              <a:rPr sz="2800"/>
            </a:b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ROVVEDIMENTI DA ATTUARE NEL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Times New Roman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24000" y="1325880"/>
            <a:ext cx="884844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457200" indent="-45720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RIORGANIZZAZ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975"/>
              </a:spcBef>
              <a:spcAft>
                <a:spcPts val="975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32°  34° Gr.A.M. Otranto e Siracusa (Squadriglie Radar Remote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400" spc="-1" strike="noStrike" u="sng">
                <a:solidFill>
                  <a:srgbClr val="ff9966"/>
                </a:solidFill>
                <a:uFillTx/>
                <a:latin typeface="Times New Roman"/>
              </a:rPr>
              <a:t>SOPPRESS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Distaccamenti Aeroportuali Elmas, Rimini e Brindisi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11° Reparto Manutenzione Velivoli Catania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2° Gruppo Manutenzione Autoveicoli Forlì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Scuola Perfezionamento Sott/li  AM Loret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9 Teleposti TLC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1 Teleposto Mete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1 Teleposto TLC/Mete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14° Deposito Centrale Modena (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4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29D1-9BD8-4A7C-9C90-BAE1BB0E77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934920" y="331920"/>
            <a:ext cx="788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Progetto di  Riordino della F.A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Esiti Lavori G.d.P. (07)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26920" y="1557360"/>
            <a:ext cx="806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OGETTI ALL’ATTENZIONE DELLO S.M.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4920" y="2515680"/>
            <a:ext cx="9433080" cy="30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457200" indent="-457200">
              <a:lnSpc>
                <a:spcPct val="125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Costituzione “Com.do Poligoni” Sarde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Riorganizzazione del settore Missili (GB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Rilocazione 1^ B.A. Padova su Centocell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Rilocazione dell’ 83° C.S.A.R. Rim. su Cerv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EE79-C70D-4C58-8E0B-80C5C7398F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71280" y="1844640"/>
            <a:ext cx="89647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101520">
              <a:lnSpc>
                <a:spcPct val="80000"/>
              </a:lnSpc>
              <a:buClr>
                <a:srgbClr val="ffff66"/>
              </a:buClr>
              <a:buFont typeface="Times New Roman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it-IT" sz="2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600" spc="-1" strike="noStrike" u="sng">
                <a:solidFill>
                  <a:srgbClr val="ffff66"/>
                </a:solidFill>
                <a:uFillTx/>
                <a:latin typeface="Times New Roman"/>
              </a:rPr>
              <a:t>Riorganizzazione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 del PISQ in “Comando Poligoni”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0152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- visione unitaria problematiche connesse alla utilizzazione dei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oligoni, impiego sinergico delle risorse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unità d’indirizzo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olitico dell’A.M.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0152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- mantiene invariata la propria connotazione di organismo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interforze a guida A.M. e la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pria sede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0152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- è collocato alle dirette dipendenze del Comandante Logistic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01520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- è sovraordinato al R.S.S.T.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0152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it-IT" sz="2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600" spc="-1" strike="noStrike" u="sng">
                <a:solidFill>
                  <a:srgbClr val="ffff66"/>
                </a:solidFill>
                <a:uFillTx/>
                <a:latin typeface="Times New Roman"/>
              </a:rPr>
              <a:t>Cambio di dipendenza</a:t>
            </a:r>
            <a:r>
              <a:rPr b="1" lang="it-IT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l R.S.S.T.A. di Decimomannu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dal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ice Comandante della Squadra Aerea al Comandante del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mando Poligoni della Sardeg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47640" y="4428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Progetto di  Riordino della F.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Esiti Lavori G.d.P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8680" y="1123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ando Poligoni della Sarde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65A3-23EC-419A-BEDD-EEB20C3A10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79280" y="1844640"/>
            <a:ext cx="8964720" cy="38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 u="sng">
                <a:solidFill>
                  <a:srgbClr val="ff9900"/>
                </a:solidFill>
                <a:uFillTx/>
                <a:latin typeface="Times New Roman"/>
              </a:rPr>
              <a:t>Provvedimenti da Attuar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5000"/>
              </a:lnSpc>
              <a:spcBef>
                <a:spcPts val="1624"/>
              </a:spcBef>
              <a:spcAft>
                <a:spcPts val="162"/>
              </a:spcAft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66ff33"/>
                </a:solidFill>
                <a:uFillTx/>
                <a:latin typeface="Times New Roman"/>
              </a:rPr>
              <a:t>Soppressione</a:t>
            </a:r>
            <a:r>
              <a:rPr b="1" lang="it-IT" sz="2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Gruppo Missili Villafr. (NO CIVILI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5000"/>
              </a:lnSpc>
              <a:spcBef>
                <a:spcPts val="1500"/>
              </a:spcBef>
              <a:spcAft>
                <a:spcPts val="150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ffff66"/>
                </a:solidFill>
                <a:uFillTx/>
                <a:latin typeface="Times New Roman"/>
              </a:rPr>
              <a:t>Riorganizzazione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 58° Gr. I.T. Cordovado in 58° Gruppo Difesa Aerea Missilistica rilocato su Rivolto (</a:t>
            </a:r>
            <a:r>
              <a:rPr b="1" lang="it-IT" sz="2600" spc="-1" strike="noStrike" u="sng">
                <a:solidFill>
                  <a:srgbClr val="ffffff"/>
                </a:solidFill>
                <a:uFillTx/>
                <a:latin typeface="Times New Roman"/>
              </a:rPr>
              <a:t>3 CIVILI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5000"/>
              </a:lnSpc>
              <a:spcBef>
                <a:spcPts val="1624"/>
              </a:spcBef>
              <a:spcAft>
                <a:spcPts val="162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ffff66"/>
                </a:solidFill>
                <a:uFillTx/>
                <a:latin typeface="Times New Roman"/>
              </a:rPr>
              <a:t>Riorganizzazione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72° Gr. I.T. Bovolone in 72° Gruppo Difesa Aerea Missilistica rilocato su Amendola (2 CIVIL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47640" y="26028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Progetto di  Riordino della F.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Esiti Lavori G.d.P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8680" y="1196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Times New Roman"/>
              </a:rPr>
              <a:t>Riordino settore missili (GBAD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5"/>
          <p:cNvSpPr/>
          <p:nvPr/>
        </p:nvSpPr>
        <p:spPr>
          <a:xfrm>
            <a:off x="7162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A05E-0771-4E2F-8D8C-6E2113C519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3" descr="stemmagif"/>
          <p:cNvPicPr/>
          <p:nvPr/>
        </p:nvPicPr>
        <p:blipFill>
          <a:blip r:embed="rId1"/>
          <a:stretch/>
        </p:blipFill>
        <p:spPr>
          <a:xfrm>
            <a:off x="190440" y="228600"/>
            <a:ext cx="102888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8680" y="1267920"/>
            <a:ext cx="8564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Times New Roman"/>
              </a:rPr>
              <a:t>Rilocazione 1^ B.A. su Centoc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371680"/>
            <a:ext cx="8964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457200" indent="-12600" algn="just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it-IT" sz="2800" spc="-1" strike="noStrike" u="sng">
                <a:solidFill>
                  <a:srgbClr val="ffcc00"/>
                </a:solidFill>
                <a:uFillTx/>
                <a:latin typeface="Times New Roman"/>
              </a:rPr>
              <a:t>Riferimenti normativ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260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Lgs 253/05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: “1^ B.A. Padova e altre se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260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2600" algn="just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800" spc="-1" strike="noStrike" u="sng">
                <a:solidFill>
                  <a:srgbClr val="ff9900"/>
                </a:solidFill>
                <a:uFillTx/>
                <a:latin typeface="Times New Roman"/>
              </a:rPr>
              <a:t>Provvedimenti da Attu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26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Rilocazione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1^ B.A. su Centocel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n configurazione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embedded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 il CSA (NO CIVIL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126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stituzione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u Padova di un Reparto di Supporto Logistico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ove troverà utile impiego tutto il personale civile in forza alla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rig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47640" y="26028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Progetto di  Riordino della F.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Esiti Lavori G.d.P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23:07:50Z</dcterms:created>
  <dc:creator>utente</dc:creator>
  <dc:description/>
  <dc:language>en-US</dc:language>
  <cp:lastModifiedBy>fraccasciag</cp:lastModifiedBy>
  <cp:lastPrinted>2001-09-26T13:25:45Z</cp:lastPrinted>
  <dcterms:modified xsi:type="dcterms:W3CDTF">2008-11-11T16:27:31Z</dcterms:modified>
  <cp:revision>638</cp:revision>
  <dc:subject/>
  <dc:title>Nessun titolo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406695</vt:r8>
  </property>
  <property fmtid="{D5CDD505-2E9C-101B-9397-08002B2CF9AE}" pid="3" name="_AuthorEmail">
    <vt:lpwstr>manca@fpcgil.it</vt:lpwstr>
  </property>
  <property fmtid="{D5CDD505-2E9C-101B-9397-08002B2CF9AE}" pid="4" name="_AuthorEmailDisplayName">
    <vt:lpwstr>Manca Noemi - FPCGIL Nazionale</vt:lpwstr>
  </property>
  <property fmtid="{D5CDD505-2E9C-101B-9397-08002B2CF9AE}" pid="5" name="_EmailSubject">
    <vt:lpwstr>riunione sma riordini ristrutturazioni -ministero difesa</vt:lpwstr>
  </property>
</Properties>
</file>