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1D72-AC5D-441F-B0AA-138C18DBBAAF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AB2E-4659-4532-A059-A4738821F41A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F0A2-EA56-4B12-8E41-F712D62A8BD1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9F04-052A-49FC-B6BD-7C35B53455E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5B76-24B7-4714-9DA1-290C216D41C6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4404-4301-4573-B91C-C3BDE74AB880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EA1F-8F1F-45AF-AC9D-EA4315D6A3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F46A-4779-4967-9115-E4927BBF1BC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6113-1D4F-4BA7-8BD7-CB2CCFA6CDA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5D5E-F767-4BBD-AE16-22FD1A3F2D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9DC8-8E76-42AB-8E3A-4865F5B5D96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F87A-C598-42CC-B11D-5FE3955FEF65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1102-B819-4817-A2E7-81A4F9EDA80D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EE9D-4C5C-4501-90CB-EEFF7810A633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617D-B758-406F-A34D-7A7FDAC470E3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62FD-D0AD-42F4-A277-6A6013468AE7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D37F-27E5-4353-827E-82E7E78974FC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0A8A-693C-4F32-88D6-9C18FA0C0942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E2FE-69A7-47C0-AB51-96EB4A42E944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A60D-5469-440B-BFD6-F488BF75512B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292B-7964-40DF-8F9E-36EDFE1973CC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E7A4-4CC1-4840-B0CC-07F262644F9A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D4DC-0FD0-483E-B14D-A70E4302CACC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9B3F-2F53-464B-9799-2449459DFA7D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96FB-5583-4723-982E-C723226745E4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7830-4E76-4755-B7BC-ED6B4BB6EC7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72BC-B793-47CF-857C-94E3D4D8DC9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2EB2-DAF6-474A-81AA-1C688A89FD9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470-B4D8-4280-B37E-3E0F685A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FA3-E9A6-4749-BA71-EA4B310A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26A87-DAE5-4F91-8587-4BD2AA2D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71A08-40C9-49FD-BBF8-51D9B2D5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18EAB-A427-45CC-A1CF-91619021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2B9A3-9ECF-4299-8E09-2F6DE69D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C53FA-7338-4FAA-BAAD-2CFC4658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21975-6B0A-4841-A656-256E8385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BE02F-76E2-4CAB-BE24-5012A9EB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1031E-6C11-4689-BCE4-731546DA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FA015-C416-4387-88E8-2A5DEC79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A3BF6-36DD-4363-B653-9931E939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F9F-AE57-4F76-95B6-2F694FD7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9CA3B-9E1B-4887-AB71-F3457DBE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7B010-BE64-41FA-A860-E5F403E6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8458D-8040-4573-8C47-FEED701A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C2079-64BB-483C-B7C5-E9E27E57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A844A-30F9-4C1A-8657-A4E13B4F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B82BB-B674-4CAD-8D34-4D8E1F35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3CA30-7C9C-4FB7-8198-AC36E294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92953-40FF-47C4-82A2-D43BBD3C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AA3F9-2329-429D-A4E5-C505DAAE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6FF72-E755-49C8-909C-B46E469D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B05-BA2B-46B5-A882-F3A07782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9B3BF-27AF-4965-8D2C-DF7E0B0D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D2FEE-605C-4445-B425-58C6BCB7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83F50-2B2E-4455-898B-AB0A76B4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44DB7-B0E8-4C7B-8940-5FADC16B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72604-7FE2-4FC9-B808-898208CE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19880-E6C9-47E5-B60F-F54E9301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DAF49-BD23-4574-B87E-4EF773AA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48CF3-29E7-43F7-98E0-E8EC94C2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23824-E0D5-4B88-805A-3848D6CC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855B6-F213-4598-9E24-E45924CC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7F75-71F1-4D3B-A906-4A38C165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0FFBC-12F6-4728-9F65-57A4F896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246A8-E562-4F47-989B-F3DC39DA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7C75D-5A5F-46E8-A2B6-D2492F86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2E0C-2C35-4BDC-AAFE-78AC5742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3852-373B-40C8-B373-82A2A857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D23D-1639-4842-86C1-9B8FA08D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0C04-EA1D-4A34-B539-439AB278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A782-5FDF-4B7B-8FEF-AAEFC681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1214-E889-49AC-810A-C77FB124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606-B19F-4649-A051-C8E46DC7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1BFF-8A67-4A16-B58B-7FE1216C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1503-988C-46CB-8155-A867A82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0A10-343E-483C-9DAC-5635D1A9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83CE-7664-4017-BEA1-285C9FB4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5D52-CC95-4550-997C-BC02B240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9FEE3-E6A3-4485-B003-4F9CC870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87F32-D1C1-4D1A-A96D-5B3DFD79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E92D-EC93-4E74-AE94-FE7EDCBD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A27F-4B00-43F7-88D1-08B933E8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0E472-0D68-4365-A7B3-383C678B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8F9-07B5-4E40-93D0-6A7F1205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85864-9458-465B-A80A-1601E05B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5DDD3-0B0B-4010-A4E4-AC33052E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EF58-FD11-4BF2-85B3-E5FD0CD9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AADB8-C34E-438E-925D-B2A7BDE7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01AD-870A-4B4E-B367-B24B2A42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F914-C374-4EA9-BFBE-3D6AC230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6D3BF-FB63-46F6-9591-1A0FFFDF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67FCA-E17C-4B16-B590-7F104CCA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EC4E7-850B-458E-AB98-1DF85BC8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4573A-D579-41E6-8E53-462E5604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8FB-EFAA-427F-A558-0F9170ED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FD1C7-6D12-4A14-813C-21F297CC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2BDB9-32C4-436C-B18D-B72B9C1A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A8430-126E-4315-862C-E879393C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42C10-89ED-4D96-8157-EA6BB44F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D9B52-F8A1-423E-8049-16261B42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B3093-653C-43B0-BBC7-07223C5C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98ED7-BE4A-412D-B041-35317237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2A750-20D2-4C0D-96CE-11548A8E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D006-A152-4B7E-A485-34C247D4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71962-2ABA-4E11-A556-42D7DD68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C9F-F743-42F5-BE73-F13D3A19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4699F-55AE-4D08-865D-23A7DF2D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FA820-4D47-405D-B8F3-74633C84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74A5C-B962-40E3-917A-522B8461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578BC-726A-4C70-B62F-B4692AA0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9CC5E-41BB-4595-B65E-416CAAB6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670D2-5B4A-4028-A91E-3EC9B6C4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66DF5-854C-4246-B02E-16FD743D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9F923-4614-40E8-98D3-C25F2D68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F7AFD-5471-4B5F-B501-2D8A7592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1DD82-1381-49CF-9155-1EFA1456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35C-5C3A-4105-8EC4-36EEC182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68582-8BE8-417F-8098-39F24EFB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E3353-0354-40D1-A2F1-0E3293F1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F5E45-B125-4B4B-AD16-D409F22F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F0F3A-335C-4D92-98ED-45B1050F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6295D-740F-4422-A797-27641B72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9A01C-9CDD-46A2-9851-ED82EA89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F82C3-35E3-41F7-860A-1B965133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4D964-7EDA-4B7E-9049-1BFE9035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307B1-76E0-495F-B96B-A7307774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6CCE6-D2FD-421C-BE23-EE84D084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9DF-5F63-40A7-A80A-01D86F71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E5A04-1680-453E-967F-D20C6372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C00F7-A47A-4D8C-8A0E-33B88640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66949-22CB-4A48-B236-4295D0BB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528CE-14D0-44A3-AD00-71225E53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E4E65-9A71-4944-972F-AF9078D4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525F7-E439-4218-A31D-A09291B5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43A02-199C-4036-A9DB-119A25A6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0A3CA-444A-4715-8783-29C35D85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B59B0-DACF-41F1-8B1D-9181BE98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07F19-79FA-4DF8-8ACA-A7BE6821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F44-B896-45AB-BFFE-3ECBCC41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88047-E13F-43FE-8BB5-9043422F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DD0BF-C4E7-43E6-B3C2-B902641A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C85A3-8D23-47F5-A057-91F5EBA0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698AD-02E0-425A-817D-BF212E95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9D990-2D6D-4E6B-ABDF-72D29848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A97F7-99F8-43AC-BF8F-02E88E99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795ED-DD05-48B3-A09C-E928A39F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E37D2-C2F1-44A3-B062-B9C152F6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98B72-F197-4FC8-B7AC-A50C2C7D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CF3CC-6726-4D46-9062-E8BFDE7A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C56-7217-4F01-A8CE-D2851AA2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B7CC0-EFE5-43B6-87E6-061A75F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5486E-FAE2-4628-9A53-1584BB87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515ED-C898-4AAC-92C3-2DC8B333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AACA8-72C5-4C4F-B292-EB288DFD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4EC7B-B845-40A1-8058-8A4B06AF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D29ED-1B8E-4F31-BD7E-42108D3D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69B6C-6250-45ED-892D-7F15D96B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86308-C4FF-46F9-9EDF-D115FEF9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8D223-1FE6-44CF-B1DC-DB51A660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A9A65-47A2-4A0C-BC28-482FC277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BCBA8CEA-1703-47CC-92A0-84749CA13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939DF587-9712-4168-ABD4-84A59C3B8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A866BC50-7717-4A23-8726-3DF3A10D5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3950C884-01E0-4E48-BA68-9F5B641CC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BDB5912F-ED4D-4C2D-AB0F-641236016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5B472475-82BB-45E5-9F71-AFDAE61A0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23F72558-5FC8-4E3C-83D9-3404E543B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A9429A80-950D-4174-980B-3043B0F39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183BE185-1589-47D1-B40B-A4B4D09B1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40314C8E-F795-4A78-B1D4-9906D6195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00C61287-5CD9-43A5-87C7-1840FADF9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sp>
        <p:nvSpPr>
          <p:cNvPr id="515" name="Rectangle 3"/>
          <p:cNvSpPr/>
          <p:nvPr/>
        </p:nvSpPr>
        <p:spPr>
          <a:xfrm>
            <a:off x="725400" y="4311720"/>
            <a:ext cx="7678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° Repar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154080" y="6427800"/>
            <a:ext cx="2473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5560" algn="ctr">
              <a:spcBef>
                <a:spcPts val="37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1500" spc="-1" strike="noStrike">
                <a:solidFill>
                  <a:srgbClr val="ffff00"/>
                </a:solidFill>
                <a:latin typeface="Arial"/>
              </a:rPr>
              <a:t>Roma, 30-31 ottobre 201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-14400" y="4871880"/>
            <a:ext cx="9172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Progetto di Riordino dello Strumento Militare Naziona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99"/>
                </a:solidFill>
                <a:latin typeface="Arial"/>
              </a:rPr>
              <a:t>INCONTRO CON I RAPPRESENTANTI NAZIONALI DELLE OO.S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GIÀ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26920" y="1446120"/>
          <a:ext cx="7643880" cy="3206880"/>
        </p:xfrm>
        <a:graphic>
          <a:graphicData uri="http://schemas.openxmlformats.org/drawingml/2006/table">
            <a:tbl>
              <a:tblPr/>
              <a:tblGrid>
                <a:gridCol w="1641600"/>
                <a:gridCol w="1859040"/>
                <a:gridCol w="1143000"/>
                <a:gridCol w="1428840"/>
                <a:gridCol w="1571400"/>
              </a:tblGrid>
              <a:tr h="76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° RMV SIGONEL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CONFIGURAZIONE MANUTENZIONE ALTRI SISTEMI D’AR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OSPE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IGENZA DI RICONVERSIONE PROFESSIONA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G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L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DIMENSIONAMENTO/RILOCAZIONE (2020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ATTIVAZIONE FASE  REIMPIEGO ALL’ATTO DELLA AUTORIZZAZIONE ALLA RILOC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666720" y="3710160"/>
            <a:ext cx="80010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 marL="1619280" indent="-1619280">
              <a:spcBef>
                <a:spcPts val="1250"/>
              </a:spcBef>
              <a:tabLst>
                <a:tab algn="l" pos="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osto 2012 : trasmissione allo SMD dell’elenco aggiornato dei provvedimenti da attuars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3"/>
          <p:cNvSpPr/>
          <p:nvPr/>
        </p:nvSpPr>
        <p:spPr>
          <a:xfrm>
            <a:off x="1143000" y="1433520"/>
            <a:ext cx="700092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just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PROVVEDIMENTI  REVISIONE STRUMENTO MILIT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012/201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34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(ELEMENTI DI ORGANIZZAZIONE CON PP.OO. PERSONALE CIVIL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500040" y="771480"/>
          <a:ext cx="8072640" cy="330984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BARI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O SEDIM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O SEDIME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MILAN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DI CORP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POL. POZZUOLI* (sedi di Pozzuoli, Caserta, Capodichin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I SEDIM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6-0-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I SEDIMI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. SANITARIA D’APPELLO – ROMA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00040" y="4362480"/>
          <a:ext cx="8072640" cy="135252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 STD VENEZ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IN FASE ELABO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 STD FINALE LIGU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ALBENGA DELLA DITTA PIAGGI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/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8" name="CasellaDiTesto 2"/>
          <p:cNvSpPr/>
          <p:nvPr/>
        </p:nvSpPr>
        <p:spPr>
          <a:xfrm>
            <a:off x="441360" y="407664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ATTUATIVI DAL 1° NOVEMBRE 20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500040" y="1004760"/>
          <a:ext cx="8072640" cy="32004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REZ. AMM.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ROMA PAL.A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FF.DISTACC COMM.TO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UFF REP AMMINIST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CIAMPIN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REPARTO GENIO MILA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00040" y="4330800"/>
          <a:ext cx="8072640" cy="11700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° GrRAM POGGIO BALL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4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D.C. MONTEROTOND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GUIDON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500040" y="907920"/>
          <a:ext cx="8072640" cy="39942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DC GALLAR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DELLE FUNZIONI AL 1° RMV 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°STORMO PIAC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STORMO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VIS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UPPO RIFORNIMENTI TORRICO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541440" y="809640"/>
          <a:ext cx="8072280" cy="14637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280"/>
                <a:gridCol w="1500480"/>
                <a:gridCol w="171432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zio Amministrati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MBIO DIPEND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l Comando Aeroporto al COMA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NTENIMENTO PRESSO ARTICOL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546120" y="2505240"/>
          <a:ext cx="8072280" cy="1098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321444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PV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ITU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O SOVRAORDINATO AL COMANDO AEROPORTO CAMERI E AL 1° RM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549360" y="3762360"/>
          <a:ext cx="8072280" cy="1773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608120"/>
                <a:gridCol w="1606320"/>
              </a:tblGrid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NSR MONTE CA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Q. TLC CIAMP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00040" y="1127160"/>
          <a:ext cx="8072640" cy="4487760"/>
        </p:xfrm>
        <a:graphic>
          <a:graphicData uri="http://schemas.openxmlformats.org/drawingml/2006/table">
            <a:tbl>
              <a:tblPr/>
              <a:tblGrid>
                <a:gridCol w="2328840"/>
                <a:gridCol w="1940040"/>
                <a:gridCol w="1241280"/>
                <a:gridCol w="1243080"/>
                <a:gridCol w="1319400"/>
              </a:tblGrid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Mostre - Roma Urb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GNA DI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PANTELLE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SMISTAMENTO AREA NORD BAGGI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EROP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NI SARZA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SVZ TEC.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IONAL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SVZ TEC. DIST. TOR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CLEO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AL 1° NOVEMBRE 2012. FUNZIONI RILOCATE AL 1° RMV CAME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4"/>
          <p:cNvSpPr/>
          <p:nvPr/>
        </p:nvSpPr>
        <p:spPr>
          <a:xfrm>
            <a:off x="1042920" y="5713560"/>
            <a:ext cx="1603440" cy="457200"/>
          </a:xfrm>
          <a:prstGeom prst="rightArrow">
            <a:avLst>
              <a:gd name="adj1" fmla="val 50000"/>
              <a:gd name="adj2" fmla="val 8767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4"/>
          <p:cNvSpPr/>
          <p:nvPr/>
        </p:nvSpPr>
        <p:spPr>
          <a:xfrm rot="5400000">
            <a:off x="4697640" y="3373920"/>
            <a:ext cx="442800" cy="552600"/>
          </a:xfrm>
          <a:prstGeom prst="rightArrow">
            <a:avLst>
              <a:gd name="adj1" fmla="val 50000"/>
              <a:gd name="adj2" fmla="val 5929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632600" y="4221000"/>
            <a:ext cx="660600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IPOTESI NUOVA QUOTA AM = DA DEFIN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979640" y="1700280"/>
            <a:ext cx="5977080" cy="15109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a2dc"/>
                </a:solidFill>
                <a:latin typeface="Arial"/>
              </a:rPr>
              <a:t>Quota dotazioni organiche ipotizzata AM 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4.48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prima della norma “spending review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2676960" y="5734080"/>
            <a:ext cx="499032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F.E.O.  A.M. al 29 ott 2012 = 4.42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4"/>
          <p:cNvSpPr/>
          <p:nvPr/>
        </p:nvSpPr>
        <p:spPr>
          <a:xfrm>
            <a:off x="642960" y="20131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2508480" y="1785960"/>
            <a:ext cx="56718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Avvio studi definizione/ottimizz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dei moduli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2195640" y="2924280"/>
            <a:ext cx="480528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evisione TOO già avvia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Tenendo presen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4"/>
          <p:cNvSpPr/>
          <p:nvPr/>
        </p:nvSpPr>
        <p:spPr>
          <a:xfrm rot="5400000">
            <a:off x="2465640" y="4021560"/>
            <a:ext cx="442800" cy="55260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116000" y="4869000"/>
            <a:ext cx="2608200" cy="86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vaca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e non funzion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4"/>
          <p:cNvSpPr/>
          <p:nvPr/>
        </p:nvSpPr>
        <p:spPr>
          <a:xfrm rot="5400000">
            <a:off x="6571440" y="3950640"/>
            <a:ext cx="442800" cy="55224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5512680" y="4653000"/>
            <a:ext cx="2620800" cy="1288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non funz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nel disegn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ordinativo futu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2865600" y="2637000"/>
            <a:ext cx="4227480" cy="12888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Circolare ordinativ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ggiornamento TOO 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l 30 giugno 20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SCOPO DELLA RIUN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tangolo 3"/>
          <p:cNvSpPr/>
          <p:nvPr/>
        </p:nvSpPr>
        <p:spPr>
          <a:xfrm>
            <a:off x="826920" y="1628640"/>
            <a:ext cx="770580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formare le OO.SS. circa il progetto di riordino dell’AM, in senso riduttivo, indicando i possibili provvedimenti da adottare nel periodo 2012-201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llustrare e aggiornare sulle linee di indirizzo per l’impiego del personale civile anche alla luce delle nuove dotazioni organiche in via di defini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4"/>
          <p:cNvSpPr/>
          <p:nvPr/>
        </p:nvSpPr>
        <p:spPr>
          <a:xfrm>
            <a:off x="571680" y="26449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425320" y="2631960"/>
            <a:ext cx="572364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Mantenimento/riduzione attuale F.E.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4"/>
          <p:cNvSpPr/>
          <p:nvPr/>
        </p:nvSpPr>
        <p:spPr>
          <a:xfrm>
            <a:off x="571680" y="37018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453040" y="3703680"/>
            <a:ext cx="54522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ivilegiare professionalità pregi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area tec.-manutentiva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pic>
        <p:nvPicPr>
          <p:cNvPr id="585" name="Rettangolo 6" descr=""/>
          <p:cNvPicPr/>
          <p:nvPr/>
        </p:nvPicPr>
        <p:blipFill>
          <a:blip r:embed="rId3"/>
          <a:stretch/>
        </p:blipFill>
        <p:spPr>
          <a:xfrm>
            <a:off x="743040" y="4376880"/>
            <a:ext cx="7657920" cy="1596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ttangolo 3"/>
          <p:cNvSpPr/>
          <p:nvPr/>
        </p:nvSpPr>
        <p:spPr>
          <a:xfrm>
            <a:off x="611280" y="1285920"/>
            <a:ext cx="816444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trodu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Status Riordi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rovvedimenti da attu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Linee di indirizzo sull’ordinamento e impiego del personale civi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Conclusi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INTRODUZ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2000160" y="1643040"/>
            <a:ext cx="521496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IORGANIZZAZIONE DIF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 rot="17529600">
            <a:off x="2819160" y="2487240"/>
            <a:ext cx="627120" cy="550800"/>
          </a:xfrm>
          <a:prstGeom prst="rightArrow">
            <a:avLst>
              <a:gd name="adj1" fmla="val 50000"/>
              <a:gd name="adj2" fmla="val 6731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642960" y="3514680"/>
            <a:ext cx="2608200" cy="11361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ovvedimenti già inseriti nel  D.Lgs. 253/’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4"/>
          <p:cNvSpPr/>
          <p:nvPr/>
        </p:nvSpPr>
        <p:spPr>
          <a:xfrm rot="14589000">
            <a:off x="5387760" y="2406240"/>
            <a:ext cx="627120" cy="551160"/>
          </a:xfrm>
          <a:prstGeom prst="rightArrow">
            <a:avLst>
              <a:gd name="adj1" fmla="val 50000"/>
              <a:gd name="adj2" fmla="val 6726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286240" y="3300480"/>
            <a:ext cx="3286440" cy="20570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.D.L. reca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elega al Governo per la revisione de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strumento militare nazional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ttangolo 6"/>
          <p:cNvSpPr/>
          <p:nvPr/>
        </p:nvSpPr>
        <p:spPr>
          <a:xfrm>
            <a:off x="357120" y="14288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601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AGGIORNAMENTO PROVVEDIMENTI  AVVIATI DAL D.LGS 253/05  e </a:t>
            </a:r>
            <a:r>
              <a:rPr b="1" i="1" lang="it-IT" sz="2400" spc="-1" strike="noStrike">
                <a:solidFill>
                  <a:srgbClr val="00cc00"/>
                </a:solidFill>
                <a:latin typeface="Arial"/>
              </a:rPr>
              <a:t>ATTUA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ttangolo 7"/>
          <p:cNvSpPr/>
          <p:nvPr/>
        </p:nvSpPr>
        <p:spPr>
          <a:xfrm>
            <a:off x="1214280" y="2527200"/>
            <a:ext cx="6858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2° GrRAM Otra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4° GrRAM Siracus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ttangolo 6"/>
          <p:cNvSpPr/>
          <p:nvPr/>
        </p:nvSpPr>
        <p:spPr>
          <a:xfrm>
            <a:off x="357120" y="1428840"/>
            <a:ext cx="8501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AGGIORNAMENTO PROVVEDIMENTI  AVVIATI DAL D.LGS.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(già partecipati alle OO.SS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ttangolo 7"/>
          <p:cNvSpPr/>
          <p:nvPr/>
        </p:nvSpPr>
        <p:spPr>
          <a:xfrm>
            <a:off x="1214280" y="2786040"/>
            <a:ext cx="68580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Elm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Brindis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1° RMV Sigonell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° GMA Forlì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4° Deposito Centrale Moden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DAL DLGS 253/05  E ATTUA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714240" y="2381400"/>
          <a:ext cx="7858440" cy="1984320"/>
        </p:xfrm>
        <a:graphic>
          <a:graphicData uri="http://schemas.openxmlformats.org/drawingml/2006/table">
            <a:tbl>
              <a:tblPr/>
              <a:tblGrid>
                <a:gridCol w="1627200"/>
                <a:gridCol w="1841760"/>
                <a:gridCol w="1274760"/>
                <a:gridCol w="1608120"/>
                <a:gridCol w="1506600"/>
              </a:tblGrid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 EFFETTU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° GrRAM Otra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IN DISTACCAMENTO AM E IN Sq.R.R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già attuat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DI REIMPIEGO OPERATIVO DAL 01/07/2012 nei nuovi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° GrRAM Siracu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755640" y="1714680"/>
          <a:ext cx="7858080" cy="2579400"/>
        </p:xfrm>
        <a:graphic>
          <a:graphicData uri="http://schemas.openxmlformats.org/drawingml/2006/table">
            <a:tbl>
              <a:tblPr/>
              <a:tblGrid>
                <a:gridCol w="1671480"/>
                <a:gridCol w="1785960"/>
                <a:gridCol w="1285920"/>
                <a:gridCol w="1571760"/>
                <a:gridCol w="154296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GRUPPO RIFORN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STEL D’ANNONE (AT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 (in aspettativ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ATTAZIONE EFFETTUATA NEL  2008.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LPERSONALE VIENE TRASFERITO ALL’ATTO DELLA CHIUSUR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GRUPPO  RIFORNIMENTI VIZZINI (S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84360" y="981000"/>
          <a:ext cx="8137440" cy="4253040"/>
        </p:xfrm>
        <a:graphic>
          <a:graphicData uri="http://schemas.openxmlformats.org/drawingml/2006/table">
            <a:tbl>
              <a:tblPr/>
              <a:tblGrid>
                <a:gridCol w="1714320"/>
                <a:gridCol w="1943280"/>
                <a:gridCol w="1344600"/>
                <a:gridCol w="1622160"/>
                <a:gridCol w="1513080"/>
              </a:tblGrid>
              <a:tr h="76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° D.C. MODE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REIMPIEGO APPROVAZIONE POLITI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ELMA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GRADUALE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/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ERTAZIONE PREVISTA NOVEMBRE 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BRINDIS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 DELL’ATTUALE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E IMPIEGO NELL’EDO RIDIMENSIONA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9:13:27Z</dcterms:created>
  <dc:creator>smelzoe</dc:creator>
  <dc:description/>
  <dc:language>en-US</dc:language>
  <cp:lastModifiedBy>genovesea</cp:lastModifiedBy>
  <dcterms:modified xsi:type="dcterms:W3CDTF">2012-11-22T11:55:42Z</dcterms:modified>
  <cp:revision>796</cp:revision>
  <dc:subject/>
  <dc:title>Diapositiva 1</dc:title>
</cp:coreProperties>
</file>