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8EF4-29B8-41AE-979B-2E6EA35C5FF5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1735-0299-42F4-822D-DC3729426272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08C8-7C03-4406-A2AC-2BC614C86B3B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E2D8-6B61-4A2E-AC65-E50428C3743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DD3F-327F-4367-8A2F-A76AFCD1DE9F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8849-0EEA-4848-A2F2-44DE30C2EAB6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C8FC-ACD0-4DD1-AD35-DB4C6E736D9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41B3-8CF7-4C77-8C0F-5CB3DF38640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CBC7-4A4B-437C-958A-1C044E00639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F64D-6E1E-43B9-9F27-DDB47AF255A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6C37-29D8-47BB-9D06-53396A100C6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75CD-5249-42E8-BD71-CB2063338843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2DF2-47D1-426A-B701-EA49D3804B6F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76E2-E341-476F-876F-5C7EE133DFC5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2B8A-9FEC-401C-ABE3-446D667EC34A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22CE-6421-41CF-92BD-68ABE28419B1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A951-935A-4646-955F-23B13E64B695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384984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2214-0614-441D-890D-D3DE6148CE33}" type="slidenum"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0BA4-5722-4AE6-80F6-75F1D816DA11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DBB8-6FE9-4449-91B1-A1A2F44880A7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384984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D532-C9A5-42BD-9198-FA0594AA8E55}" type="slidenum"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D4CE-0C36-4EA3-B2E0-EFE10A7B12C3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366D-F3A7-41D1-A137-EC86243E59B6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19EA-D4A9-4086-ADDD-CDA6C0A48184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6578-306B-4E1B-A994-86941586D691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B9C5-8D07-4EA2-8D68-AE6945AEDFE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A812-5324-4314-8924-AFFF3853318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B464-C5F8-4448-8CD3-09F668D8CDB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3D47-F392-4513-95B1-B86305D7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4841-2211-4EF3-ACA9-6FA47738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11273-5C84-4A41-9835-9CBADD4B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D95E1-ADF2-4775-A8E4-437862E9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FBD01-3A19-41E4-90E8-568FB113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1D317-A916-47D3-A959-360BE929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BDC08-86B0-42E9-84F9-94F777FA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8CD7D-FD31-4854-804B-7E2C9B19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6C003-DDCC-4DDC-8589-ADAE928E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B097A-8E0C-4271-AB41-9C436CE0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03F7B-89D5-4665-BECB-78790C2E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533F8-9A9E-4673-924A-C711B1ED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6CB-E51A-48E5-9D64-0F4CDBFB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19AF3-49B8-4E5C-928F-222C1B37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77AB5-698B-42F5-B625-89DE891B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71440-073B-4681-944D-35A8CF8B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1D107-5681-4AE7-8110-4999069C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70243-537B-49F4-B4D4-BE4C2857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AE96D-50E2-4D1B-A442-96107C3A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F821D-1D1C-463E-9548-36A2A664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94D1A-06ED-4F6B-9C41-375BE069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8982A-940C-4E21-9F94-9ADAA7E3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B3073-C026-4806-8041-AE8A82A2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FC7E-5AC1-41C5-B237-8C823A90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37D54-E8B3-457C-A9AF-79B48BA8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5FE43-ED7D-42E1-B62E-C7AC1FC5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A098C-8FC9-459B-8E98-CBD129CA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BCDF4-02C7-42AC-A861-B466553F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F9354-4BB3-4654-96A6-104A095F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D3F6E-3F20-40D3-934B-73C9E083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A0599-EA7A-4713-A39F-9C54E122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0B9AC-0C8E-4849-9459-90C93AFB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2DA7F-E00E-49ED-AFA6-1C8FC828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80895-403F-44AF-BCB7-0FD60814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0F20-AB0C-4F1B-9561-DEE23D02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61D8A-E374-4842-9C48-97DB985C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9D646-0E50-4A91-872D-69178D17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1868F-2FF1-47DB-8F0B-8CC16530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E7D7-8EC0-4901-B77C-3F02EE3D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A253-4A50-41DA-B490-53FD94BB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6A92-770A-4666-AA6B-63B93864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58B6-E2B3-4C43-9FB6-5F0FE0FA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1B57-B9E1-4EB8-8BF6-5C99E163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10F4-DFCB-4184-B982-38526270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64F-9C56-455F-9532-005BF933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EA80-88F7-4539-8A4D-D2399B95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D7C9-6F49-4450-929F-0533CC70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1E4D-4D12-4394-839E-DDBCD79A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DA67-28B2-4FFB-AD7F-52607070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7A3F-0405-4AC8-9B69-93F2FC15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9F45E-EC31-48C5-AAD4-E913722A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D8FCB-DD18-4047-B53C-0CD06EEF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22A60-C416-451A-B9D1-1E43E3A5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25BFC-8B51-4EF3-990E-D0860CC4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D6E6E-5E6D-4622-99E4-624C153D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309C-416D-4735-A1BD-919B8567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5990A-C739-45C5-808B-DEE0529F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90DC2-583E-46EB-B9FF-93CAF2A3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BC72A-61F1-44B0-8606-557D48FA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E90EF-40BB-4CA4-BD3E-7A141BF3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C14F6-3F35-448A-BF40-F20A4F8C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7BB52-5D21-48A8-AE99-D8AE0F43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C4CBB-3A1D-4558-A896-3630B50F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B072E-F200-4841-A418-D10DE928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80213-D9AB-4EBE-AE2E-C5F64AE4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A9F6A-8CA4-4BB3-935A-83AAE078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66AC-E63C-48A6-9847-E6F22806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884FA-D621-45F6-84BC-2923A94F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DA311-CA0E-4389-A377-E16D6555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D6857-338C-4362-9712-E07BB0DB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67651-AE2D-4B75-8DC4-433DBDF3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9E533-670B-4694-AA44-EA681ACA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7E4C8-6F14-457C-B3CC-2019828D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A6E06-2442-4BAC-A5EF-81BC9BDC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56609-E5EA-4C19-B39C-436FFCA6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73B92-7F12-46E0-940B-1380A34D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169A9-5326-4D29-94FA-7A6941B5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2E00-FA55-4660-8A13-E0FED49C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87B8F-B4E8-4C29-98D1-E9DD4EE7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90CA0-3E53-4341-BFE8-844E362F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421B1-885F-4D3B-B59E-39B4F6B8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642E9-F152-432A-9667-CD3EE078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55378-A44A-48B2-8F80-A614EB18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FBA5F-9EAF-405B-95F3-0E49264E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D2B69-F20F-4552-A8ED-E2451D87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FB45E-EC3F-45CF-A760-191E1A95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C01BD-54E5-40FE-8DB6-DF6CECBE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F6964-090B-4E2D-93C2-C6C35A78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F06F-ADD3-4FDA-97D3-CB4D4706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36ADF-6A38-49F9-8F28-DCABADCE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B4B7E-45E9-45C8-B6EF-A9A643AD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20CD6-5939-46B5-A430-DD3D16A4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A0016-1A4D-4CAF-BA62-D25B3C62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21D17-2F7F-497E-83DB-630B5272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344E3-5E99-4DB8-85E7-DDD47274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36A2F-F2A4-4A24-AA39-0EDAE685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DD944-568E-48F9-8CC6-C5F6011D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3C8EF-5CB1-4994-8127-04BF2BCE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D15C0-A539-4772-AEA6-ADC5ECC1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1058-CD12-42AD-ACD4-D9C4ED94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DE0B8-98B8-4F44-BE4D-DE628469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514C0-5EEB-4124-96B8-FBBD9F85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FD36B-1475-4B60-8247-81FA29EC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59DF2-0A34-41A9-A5EC-3009311B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11884-00B0-40F2-BC5B-B18F2752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15FF2-04FB-4D28-A4B4-FAC7C8C8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1A755-594E-46C2-A3C4-ECBDE266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4544D-7D41-4BA7-98CD-8F6E6576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1FC0E-F24D-4711-86C7-B292CA0C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DC3C8-B56A-4527-AC8E-09A11916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798C-8AC6-448A-A82D-A55E88AA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35291-1622-4609-9FB3-81F5DF24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1D655-12AC-4189-96F0-7741E7C9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F0876-F01B-4ADA-AE92-A925824B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C39FA-2863-48A2-AB91-4FDC96B8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6F88B-7FC8-4B03-B3D5-89EBC00B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86596-F67E-4BA3-B916-865E11E6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97CC1-5372-4045-84F2-0EA28B40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48F48-DEF6-44ED-A967-EB92090D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688F9-D8B7-48CA-AE4D-E0B2CEC3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30F42-6329-4B56-A1AB-79FA8E68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B515-0FC3-4F56-815E-A0EB5D53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F3863-2E75-41C3-BAB0-9E5EE234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54DC7-D160-4A27-90CC-02478130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6E2EB-2238-4396-96C4-B26F563D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C4A1A-0C1D-498D-9A09-BDE16530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F849B-A501-41EC-A635-099E0CBC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F6CA6-DEAE-489E-AEA4-EDBC6818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4ECA6-02A2-4318-9C8B-8E1B4DB6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C5CA9-75EF-4C60-B3AC-D21C655D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43D9E-B69E-4E3E-BD43-3D667399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5E132-9E8B-4F99-86B9-1C1CDAA6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D3CCF556-2BAE-4B55-8B82-3931CC4FA1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40B08596-37DF-4113-BB48-C161839EB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851F971D-A972-4B66-8CAF-1689C5BB18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E07D30DB-93F0-406D-8D18-5ADEAA1E90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BB53FCFF-6248-450B-B774-36A86DA466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C8A9B4DB-F2B8-4227-8275-BD1D92C14B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AD7B5338-13D8-4711-8DC3-CCBDDECEAC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582B2068-58B4-4452-B133-434D7B8FD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9BFCDA10-F7A2-4B79-8CEB-705EA55B44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4C6FC50A-95AA-4412-853D-F4FE94EA08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AE699141-C7D3-43E1-AA7D-E2F2D65BB5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Immagine 9" descr="Foto di Apertura"/>
          <p:cNvPicPr/>
          <p:nvPr/>
        </p:nvPicPr>
        <p:blipFill>
          <a:blip r:embed="rId1"/>
          <a:stretch/>
        </p:blipFill>
        <p:spPr>
          <a:xfrm>
            <a:off x="0" y="0"/>
            <a:ext cx="9142560" cy="68612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"/>
          <p:cNvPicPr/>
          <p:nvPr/>
        </p:nvPicPr>
        <p:blipFill>
          <a:blip r:embed="rId2"/>
          <a:stretch/>
        </p:blipFill>
        <p:spPr>
          <a:xfrm>
            <a:off x="3216240" y="771480"/>
            <a:ext cx="2652840" cy="346572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66">
                <a:alpha val="75000"/>
              </a:srgbClr>
            </a:outerShdw>
          </a:effectLst>
        </p:spPr>
      </p:pic>
      <p:sp>
        <p:nvSpPr>
          <p:cNvPr id="515" name="Rectangle 3"/>
          <p:cNvSpPr/>
          <p:nvPr/>
        </p:nvSpPr>
        <p:spPr>
          <a:xfrm>
            <a:off x="725400" y="4311720"/>
            <a:ext cx="7678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1° Repar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154080" y="6427800"/>
            <a:ext cx="2473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8440" tIns="0" bIns="0" anchor="t">
            <a:noAutofit/>
          </a:bodyPr>
          <a:p>
            <a:pPr marL="25560" algn="ctr">
              <a:spcBef>
                <a:spcPts val="37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en-US" sz="1500" spc="-1" strike="noStrike">
                <a:solidFill>
                  <a:srgbClr val="ffff00"/>
                </a:solidFill>
                <a:latin typeface="Arial"/>
              </a:rPr>
              <a:t>Roma, 30-31 ottobre 2012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0"/>
          <p:cNvSpPr/>
          <p:nvPr/>
        </p:nvSpPr>
        <p:spPr>
          <a:xfrm>
            <a:off x="-14400" y="4871880"/>
            <a:ext cx="9172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Arial"/>
              </a:rPr>
              <a:t>Progetto di Riordino dello Strumento Militare Naziona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99"/>
                </a:solidFill>
                <a:latin typeface="Arial"/>
              </a:rPr>
              <a:t>INCONTRO CON I RAPPRESENTANTI NAZIONALI DELLE OO.S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GIÀ PREVISTI  DAL DLGS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826920" y="1446120"/>
          <a:ext cx="7643880" cy="3206880"/>
        </p:xfrm>
        <a:graphic>
          <a:graphicData uri="http://schemas.openxmlformats.org/drawingml/2006/table">
            <a:tbl>
              <a:tblPr/>
              <a:tblGrid>
                <a:gridCol w="1641600"/>
                <a:gridCol w="1859040"/>
                <a:gridCol w="1143000"/>
                <a:gridCol w="1428840"/>
                <a:gridCol w="1571400"/>
              </a:tblGrid>
              <a:tr h="76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° RMV SIGONELL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OSTA RICONFIGURAZIONE MANUTENZIONE ALTRI SISTEMI D’ARM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OSPES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IGENZA DI RICONVERSIONE PROFESSIONA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 GM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L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OSTA RIDIMENSIONAMENTO/RILOCAZIONE (2020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ATTIVAZIONE FASE  REIMPIEGO ALL’ATTO DELLA AUTORIZZAZIONE ALLA RILOC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700" spc="-1" strike="noStrike">
                <a:solidFill>
                  <a:srgbClr val="ffff00"/>
                </a:solidFill>
                <a:latin typeface="Arial"/>
              </a:rPr>
              <a:t>STATUS RIORDIN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666720" y="3710160"/>
            <a:ext cx="800100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 marL="1619280" indent="-1619280">
              <a:spcBef>
                <a:spcPts val="1250"/>
              </a:spcBef>
              <a:tabLst>
                <a:tab algn="l" pos="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osto 2012 : trasmissione allo SMD dell’elenco aggiornato dei provvedimenti da attuarsi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ttangolo 3"/>
          <p:cNvSpPr/>
          <p:nvPr/>
        </p:nvSpPr>
        <p:spPr>
          <a:xfrm>
            <a:off x="1143000" y="1433520"/>
            <a:ext cx="7000920" cy="10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just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PROVVEDIMENTI  REVISIONE STRUMENTO MILITA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2012/2015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ctr">
              <a:spcBef>
                <a:spcPts val="34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(ELEMENTI DI ORGANIZZAZIONE CON PP.OO. PERSONALE CIVIL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500040" y="771480"/>
          <a:ext cx="8072640" cy="330984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.P. BARI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SU MEDESIMO SEDIM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CORD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IMPIEGO SU NUOVI EDO  STESSO SEDIME (Infermerie di corpo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.P. MILANO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. DI CORPO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. POL. POZZUOLI* (sedi di Pozzuoli, Caserta, Capodichino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SU MEDESIMI SEDIMI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6-0-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CORD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IMPIEGO SU NUOVI EDO  STESSI SEDIMI (Infermerie di corpo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. SANITARIA D’APPELLO – ROMA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00040" y="4362480"/>
          <a:ext cx="8072640" cy="135252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° STD VENEZ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ANO IN FASE ELABOR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° STD FINALE LIGU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ALBENGA DELLA DITTA PIAGGI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/2013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8" name="CasellaDiTesto 2"/>
          <p:cNvSpPr/>
          <p:nvPr/>
        </p:nvSpPr>
        <p:spPr>
          <a:xfrm>
            <a:off x="441360" y="4076640"/>
            <a:ext cx="38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ATTUATIVI DAL 1° NOVEMBRE 20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500040" y="1004760"/>
          <a:ext cx="8072640" cy="320040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REZ. AMM. BAR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ROMA PAL.AM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FF.DISTACC COMM.TO BAR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°UFF REP AMMINISTR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CIAMPIN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REPARTO GENIO MILA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VILLAFRANC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500040" y="4330800"/>
          <a:ext cx="8072640" cy="117000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° GrRAM POGGIO BALL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4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 D.C. MONTEROTOND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GUIDON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500040" y="907920"/>
          <a:ext cx="8072640" cy="399420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 DC GALLARA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DELLE FUNZIONI AL 1° RMV (entro 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°STORMO PIACENZ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°STORMO VILLAFRANC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ITO SN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 (NEI SN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EVIS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ITO SN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 (NEI SN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UPPO RIFORNIMENTI TORRICOL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SU BORGO PIAV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541440" y="809640"/>
          <a:ext cx="8072280" cy="146376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280"/>
                <a:gridCol w="1500480"/>
                <a:gridCol w="171432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. AEROP. VIGNA VA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rvizio Amministrativ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MBIO DIPENDENZ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l Comando Aeroporto al COMAE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NTENIMENTO PRESSO ARTICOL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546120" y="2505240"/>
          <a:ext cx="8072280" cy="109836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321444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NO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EPV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ITU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DO SOVRAORDINATO AL COMANDO AEROPORTO CAMERI E AL 1° RM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549360" y="3762360"/>
          <a:ext cx="8072280" cy="177336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608120"/>
                <a:gridCol w="1606320"/>
              </a:tblGrid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NSR MONTE CAV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Q. TLC CIAMPI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 BORGO PIAV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00040" y="1127160"/>
          <a:ext cx="8072640" cy="4487760"/>
        </p:xfrm>
        <a:graphic>
          <a:graphicData uri="http://schemas.openxmlformats.org/drawingml/2006/table">
            <a:tbl>
              <a:tblPr/>
              <a:tblGrid>
                <a:gridCol w="2328840"/>
                <a:gridCol w="1940040"/>
                <a:gridCol w="1241280"/>
                <a:gridCol w="1243080"/>
                <a:gridCol w="1319400"/>
              </a:tblGrid>
              <a:tr h="639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. AEROP. VIGNA VA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z. Mostre - Roma Urb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VIGNA DI VA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7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7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CCAMENTO AEROPORTUALE PANTELLE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3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Z. SMISTAMENTO AREA NORD BAGGI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EROP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UNI SARZA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DIMENSIONA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SVZ TEC. DIST. CASE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ZIONAL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entro 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SVZ TEC. DIST. TORI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CLEO DIST. CASE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 AL 1° NOVEMBRE 2012. FUNZIONI RILOCATE AL 1° RMV CAMER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4"/>
          <p:cNvSpPr/>
          <p:nvPr/>
        </p:nvSpPr>
        <p:spPr>
          <a:xfrm>
            <a:off x="1042920" y="5713560"/>
            <a:ext cx="1603440" cy="457200"/>
          </a:xfrm>
          <a:prstGeom prst="rightArrow">
            <a:avLst>
              <a:gd name="adj1" fmla="val 50000"/>
              <a:gd name="adj2" fmla="val 8767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24"/>
          <p:cNvSpPr/>
          <p:nvPr/>
        </p:nvSpPr>
        <p:spPr>
          <a:xfrm rot="5400000">
            <a:off x="4697640" y="3373920"/>
            <a:ext cx="442800" cy="552600"/>
          </a:xfrm>
          <a:prstGeom prst="rightArrow">
            <a:avLst>
              <a:gd name="adj1" fmla="val 50000"/>
              <a:gd name="adj2" fmla="val 59296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 vert="eaVert" rot="10800000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632600" y="4221000"/>
            <a:ext cx="660600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IPOTESI NUOVA QUOTA AM = DA DEFINI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1979640" y="1700280"/>
            <a:ext cx="5977080" cy="15109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a2dc"/>
                </a:solidFill>
                <a:latin typeface="Arial"/>
              </a:rPr>
              <a:t>Quota dotazioni organiche ipotizzata AM </a:t>
            </a: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4.485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(prima della norma “spending review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2676960" y="5734080"/>
            <a:ext cx="499032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F.E.O.  A.M. al 29 ott 2012 = 4.42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24"/>
          <p:cNvSpPr/>
          <p:nvPr/>
        </p:nvSpPr>
        <p:spPr>
          <a:xfrm>
            <a:off x="642960" y="2013120"/>
            <a:ext cx="1123920" cy="417240"/>
          </a:xfrm>
          <a:prstGeom prst="rightArrow">
            <a:avLst>
              <a:gd name="adj1" fmla="val 50000"/>
              <a:gd name="adj2" fmla="val 6734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2508480" y="1785960"/>
            <a:ext cx="5671800" cy="8650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Avvio studi definizione/ottimizz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dei moduli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24"/>
          <p:cNvSpPr/>
          <p:nvPr/>
        </p:nvSpPr>
        <p:spPr>
          <a:xfrm>
            <a:off x="642960" y="3070080"/>
            <a:ext cx="1123920" cy="417600"/>
          </a:xfrm>
          <a:prstGeom prst="rightArrow">
            <a:avLst>
              <a:gd name="adj1" fmla="val 50000"/>
              <a:gd name="adj2" fmla="val 6728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2195640" y="2924280"/>
            <a:ext cx="4805280" cy="8650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Revisione TOO già avvia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Tenendo presen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24"/>
          <p:cNvSpPr/>
          <p:nvPr/>
        </p:nvSpPr>
        <p:spPr>
          <a:xfrm rot="5400000">
            <a:off x="2465640" y="4021560"/>
            <a:ext cx="442800" cy="552600"/>
          </a:xfrm>
          <a:prstGeom prst="rightArrow">
            <a:avLst>
              <a:gd name="adj1" fmla="val 50000"/>
              <a:gd name="adj2" fmla="val 5912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 vert="eaVert" rot="10800000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116000" y="4869000"/>
            <a:ext cx="2608200" cy="86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p.oo. vaca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e non funzion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24"/>
          <p:cNvSpPr/>
          <p:nvPr/>
        </p:nvSpPr>
        <p:spPr>
          <a:xfrm rot="5400000">
            <a:off x="6571440" y="3950640"/>
            <a:ext cx="442800" cy="552240"/>
          </a:xfrm>
          <a:prstGeom prst="rightArrow">
            <a:avLst>
              <a:gd name="adj1" fmla="val 50000"/>
              <a:gd name="adj2" fmla="val 5912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 vert="eaVert" rot="10800000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5512680" y="4653000"/>
            <a:ext cx="2620800" cy="1288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p.oo. non funz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nel disegn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ordinativo futu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24"/>
          <p:cNvSpPr/>
          <p:nvPr/>
        </p:nvSpPr>
        <p:spPr>
          <a:xfrm>
            <a:off x="642960" y="3070080"/>
            <a:ext cx="1123920" cy="417600"/>
          </a:xfrm>
          <a:prstGeom prst="rightArrow">
            <a:avLst>
              <a:gd name="adj1" fmla="val 50000"/>
              <a:gd name="adj2" fmla="val 6728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2865600" y="2637000"/>
            <a:ext cx="4227480" cy="12888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Circolare ordinativ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aggiornamento TOO 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al 30 giugno 201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SCOPO DELLA RIUNION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ttangolo 3"/>
          <p:cNvSpPr/>
          <p:nvPr/>
        </p:nvSpPr>
        <p:spPr>
          <a:xfrm>
            <a:off x="826920" y="1628640"/>
            <a:ext cx="770580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650"/>
              </a:spcBef>
              <a:spcAft>
                <a:spcPts val="150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Informare le OO.SS. circa il progetto di riordino dell’AM, in senso riduttivo, indicando i possibili provvedimenti da adottare nel periodo 2012-2015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650"/>
              </a:spcBef>
              <a:spcAft>
                <a:spcPts val="150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Illustrare e aggiornare sulle linee di indirizzo per l’impiego del personale civile anche alla luce delle nuove dotazioni organiche in via di defini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24"/>
          <p:cNvSpPr/>
          <p:nvPr/>
        </p:nvSpPr>
        <p:spPr>
          <a:xfrm>
            <a:off x="571680" y="2644920"/>
            <a:ext cx="1123920" cy="417240"/>
          </a:xfrm>
          <a:prstGeom prst="rightArrow">
            <a:avLst>
              <a:gd name="adj1" fmla="val 50000"/>
              <a:gd name="adj2" fmla="val 6734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2425320" y="2631960"/>
            <a:ext cx="572364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Mantenimento/riduzione attuale F.E.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24"/>
          <p:cNvSpPr/>
          <p:nvPr/>
        </p:nvSpPr>
        <p:spPr>
          <a:xfrm>
            <a:off x="571680" y="3701880"/>
            <a:ext cx="1123920" cy="417600"/>
          </a:xfrm>
          <a:prstGeom prst="rightArrow">
            <a:avLst>
              <a:gd name="adj1" fmla="val 50000"/>
              <a:gd name="adj2" fmla="val 6728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2453040" y="3703680"/>
            <a:ext cx="5452200" cy="8650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rivilegiare professionalità pregi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(area tec.-manutentiva, etc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Immagine 9" descr="Foto di Apertura"/>
          <p:cNvPicPr/>
          <p:nvPr/>
        </p:nvPicPr>
        <p:blipFill>
          <a:blip r:embed="rId1"/>
          <a:stretch/>
        </p:blipFill>
        <p:spPr>
          <a:xfrm>
            <a:off x="0" y="0"/>
            <a:ext cx="9142560" cy="68612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"/>
          <p:cNvPicPr/>
          <p:nvPr/>
        </p:nvPicPr>
        <p:blipFill>
          <a:blip r:embed="rId2"/>
          <a:stretch/>
        </p:blipFill>
        <p:spPr>
          <a:xfrm>
            <a:off x="3216240" y="771480"/>
            <a:ext cx="2652840" cy="346572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66">
                <a:alpha val="75000"/>
              </a:srgbClr>
            </a:outerShdw>
          </a:effectLst>
        </p:spPr>
      </p:pic>
      <p:pic>
        <p:nvPicPr>
          <p:cNvPr id="585" name="Rettangolo 6" descr=""/>
          <p:cNvPicPr/>
          <p:nvPr/>
        </p:nvPicPr>
        <p:blipFill>
          <a:blip r:embed="rId3"/>
          <a:stretch/>
        </p:blipFill>
        <p:spPr>
          <a:xfrm>
            <a:off x="743040" y="4376880"/>
            <a:ext cx="7657920" cy="1596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ttangolo 3"/>
          <p:cNvSpPr/>
          <p:nvPr/>
        </p:nvSpPr>
        <p:spPr>
          <a:xfrm>
            <a:off x="611280" y="1285920"/>
            <a:ext cx="816444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Introduzio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Status Riordi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Provvedimenti da attu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Linee di indirizzo sull’ordinamento e impiego del personale civi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Conclusio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INTRODUZION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2000160" y="1643040"/>
            <a:ext cx="521496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RIORGANIZZAZIONE DIFE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4"/>
          <p:cNvSpPr/>
          <p:nvPr/>
        </p:nvSpPr>
        <p:spPr>
          <a:xfrm rot="17529600">
            <a:off x="2819160" y="2487240"/>
            <a:ext cx="627120" cy="550800"/>
          </a:xfrm>
          <a:prstGeom prst="rightArrow">
            <a:avLst>
              <a:gd name="adj1" fmla="val 50000"/>
              <a:gd name="adj2" fmla="val 6731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642960" y="3514680"/>
            <a:ext cx="2608200" cy="11361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rovvedimenti già inseriti nel  D.Lgs. 253/’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24"/>
          <p:cNvSpPr/>
          <p:nvPr/>
        </p:nvSpPr>
        <p:spPr>
          <a:xfrm rot="14589000">
            <a:off x="5387760" y="2406240"/>
            <a:ext cx="627120" cy="551160"/>
          </a:xfrm>
          <a:prstGeom prst="rightArrow">
            <a:avLst>
              <a:gd name="adj1" fmla="val 50000"/>
              <a:gd name="adj2" fmla="val 6726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5286240" y="3300480"/>
            <a:ext cx="3286440" cy="205704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D.D.L. reca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“</a:t>
            </a: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Delega al Governo per la revisione del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strumento militare nazional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428760" y="214200"/>
            <a:ext cx="829152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700" spc="-1" strike="noStrike">
                <a:solidFill>
                  <a:srgbClr val="ffff00"/>
                </a:solidFill>
                <a:latin typeface="Arial"/>
              </a:rPr>
              <a:t>STATUS RIORDIN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ttangolo 6"/>
          <p:cNvSpPr/>
          <p:nvPr/>
        </p:nvSpPr>
        <p:spPr>
          <a:xfrm>
            <a:off x="357120" y="142884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ctr">
              <a:spcBef>
                <a:spcPts val="601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AGGIORNAMENTO PROVVEDIMENTI  AVVIATI DAL D.LGS 253/05  e </a:t>
            </a:r>
            <a:r>
              <a:rPr b="1" i="1" lang="it-IT" sz="2400" spc="-1" strike="noStrike">
                <a:solidFill>
                  <a:srgbClr val="00cc00"/>
                </a:solidFill>
                <a:latin typeface="Arial"/>
              </a:rPr>
              <a:t>ATTUA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ttangolo 7"/>
          <p:cNvSpPr/>
          <p:nvPr/>
        </p:nvSpPr>
        <p:spPr>
          <a:xfrm>
            <a:off x="1214280" y="2527200"/>
            <a:ext cx="6858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32° GrRAM Otran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34° GrRAM Siracus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28760" y="214200"/>
            <a:ext cx="829152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700" spc="-1" strike="noStrike">
                <a:solidFill>
                  <a:srgbClr val="ffff00"/>
                </a:solidFill>
                <a:latin typeface="Arial"/>
              </a:rPr>
              <a:t>STATUS RIORDIN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ttangolo 6"/>
          <p:cNvSpPr/>
          <p:nvPr/>
        </p:nvSpPr>
        <p:spPr>
          <a:xfrm>
            <a:off x="357120" y="1428840"/>
            <a:ext cx="8501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AGGIORNAMENTO PROVVEDIMENTI  AVVIATI DAL D.LGS.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(già partecipati alle OO.SS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ttangolo 7"/>
          <p:cNvSpPr/>
          <p:nvPr/>
        </p:nvSpPr>
        <p:spPr>
          <a:xfrm>
            <a:off x="1214280" y="2786040"/>
            <a:ext cx="68580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Distaccamento Aeroportuale Elma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Distaccamento Aeroportuale Brindis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11° RMV Sigonella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2° GMA Forlì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14° Deposito Centrale Moden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DAL DLGS 253/05  E ATTUAT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714240" y="2381400"/>
          <a:ext cx="7858440" cy="1984320"/>
        </p:xfrm>
        <a:graphic>
          <a:graphicData uri="http://schemas.openxmlformats.org/drawingml/2006/table">
            <a:tbl>
              <a:tblPr/>
              <a:tblGrid>
                <a:gridCol w="1627200"/>
                <a:gridCol w="1841760"/>
                <a:gridCol w="1274760"/>
                <a:gridCol w="1608120"/>
                <a:gridCol w="1506600"/>
              </a:tblGrid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 EFFETTUA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° GrRAM Otra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IN DISTACCAMENTO AM E IN Sq.R.R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già attuat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ANO DI REIMPIEGO OPERATIVO DAL 01/07/2012 nei nuovi Ed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° GrRAM Siracus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PREVISTI  DAL DLGS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755640" y="1714680"/>
          <a:ext cx="7858080" cy="2579400"/>
        </p:xfrm>
        <a:graphic>
          <a:graphicData uri="http://schemas.openxmlformats.org/drawingml/2006/table">
            <a:tbl>
              <a:tblPr/>
              <a:tblGrid>
                <a:gridCol w="1671480"/>
                <a:gridCol w="1785960"/>
                <a:gridCol w="1285920"/>
                <a:gridCol w="1571760"/>
                <a:gridCol w="154296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 GRUPPO RIFORN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STEL D’ANNONE (AT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3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 (in aspettativ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TRATTAZIONE EFFETTUATA NEL  2008.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LPERSONALE VIENE TRASFERITO ALL’ATTO DELLA CHIUSUR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GRUPPO  RIFORNIMENTI VIZZINI (S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PREVISTI  DAL DLGS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684360" y="981000"/>
          <a:ext cx="8137440" cy="4253040"/>
        </p:xfrm>
        <a:graphic>
          <a:graphicData uri="http://schemas.openxmlformats.org/drawingml/2006/table">
            <a:tbl>
              <a:tblPr/>
              <a:tblGrid>
                <a:gridCol w="1714320"/>
                <a:gridCol w="1943280"/>
                <a:gridCol w="1344600"/>
                <a:gridCol w="1622160"/>
                <a:gridCol w="1513080"/>
              </a:tblGrid>
              <a:tr h="76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° D.C. MODE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  CON RILASCIO DEL SEDIM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ANO REIMPIEGO APPROVAZIONE POLITIC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CCAMENTO AEROPORTUALE ELMA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 GRADUALE CON RILASCIO DEL SEDIM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3/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CERTAZIONE PREVISTA NOVEMBRE 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CCAMENTO AEROPORTUALE BRINDISI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DIMENSIONAMENTO DELL’ATTUALE Ed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TILE IMPIEGO NELL’EDO RIDIMENSIONA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OSTA 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9:13:27Z</dcterms:created>
  <dc:creator>smelzoe</dc:creator>
  <dc:description/>
  <dc:language>en-US</dc:language>
  <cp:lastModifiedBy>genovesea</cp:lastModifiedBy>
  <dcterms:modified xsi:type="dcterms:W3CDTF">2012-11-22T11:55:42Z</dcterms:modified>
  <cp:revision>796</cp:revision>
  <dc:subject/>
  <dc:title>Diapositiva 1</dc:title>
</cp:coreProperties>
</file>