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EC98-489E-4C2E-9E92-6C12869130AC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618-D46F-4799-8161-2F6BE8B6F521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5B98-ED68-4389-B594-EB3E9B7C5F4E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65A7-9504-4C5A-A06A-FF9C6A9EE4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DBC2-37AD-4D11-A157-90594C9215FD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E202-02D4-4F82-9AC2-1A568B3358D3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CE34-A90D-4A80-A354-57398CB3C2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7BB3-1EAB-4504-AB61-DD6CA9C3762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1FF9-FDF6-4501-A6A7-3A0E426A77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7F8D-5819-441E-AC3D-86ECE41619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BEF6-9142-4E01-8979-97D16ED50D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A60D-1B2B-4356-ABE9-58625B17930F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5119-0AA5-4EFC-9A92-FB43635C6FBF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6DE-C36E-4C96-B24E-75E749A5B2AD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6997-2D5E-47C9-A295-648A6FF0E625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BEC3-9160-41FF-AED6-9FDC4C2483B8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F0A5-AEF6-4CC6-A169-D147F937A534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DD50-D8D9-488F-8452-9706C8F6A823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3F33-B663-4954-B1E3-CEB94F14B76C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2F8F-328B-416D-A169-59534846C688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358A-0CCB-407B-BE39-51506C342128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7694-0DF7-49E2-8AFB-CB784E45F543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388C-3B0A-4E7E-8F8F-7190BBBBEBF9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0F55-C5CF-40FF-BED6-89CA0FF900B1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2086-097F-4C1C-9B1A-5E3CABD663B7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5DD8-92C0-4F0E-80BB-091BAA5917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3702-7412-4EE4-BF2F-450CDBB0B5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B200-2083-43F0-9006-09354EB0A7F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581-867F-411B-8E62-1FEC7B88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F14-BAC3-4EA2-9832-89E74B0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B5E67-7969-4C57-B7D4-8F0BAB09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9133F-C3E2-45A8-BACC-342F7CC6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61840-E8F4-4458-B08D-AC3D62D7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FCD2A-AEE5-40E4-8861-849A4C1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B7455-2AD4-49FC-B3F4-CA8AB96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4BA99-F4EA-440D-985D-5F2C87F3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A1624-D511-4BBF-B2E4-A46D8B1B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97B64-B3CD-4DD5-903C-000347CF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89E7C-AD3E-4341-BEF5-17F9A712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3D93E-04EE-4814-84DE-0E568CDA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3BF-BF08-4FBE-91C4-CD5B1D53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D3434-6733-46EC-8438-E209F5A8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D25CD-C330-4E15-A538-3C083A1C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98023-D634-4752-8F01-993D07C0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080F7-681D-48E3-84DD-6D9659C4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D83C3-35C6-4E8F-BA0E-C25B165C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CAC24-BE52-4F1C-BF12-07E55E2A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67DB8-6967-4A5D-B1F1-E7C58AB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34E85-10ED-43DB-8685-370C57D1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427AB-B450-4830-AD3C-CBE74412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E9E45-06B3-45A1-842C-CF8D67F3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BF9-1961-45AE-A0C1-FA06A307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2D393-4AE8-428C-A0C0-E1FFD55B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F9607-FB10-4B06-96AF-86BDFECD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473F9-8E96-4627-977A-167F4264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4BEE0-21FA-4531-8449-C55801C5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09FD0-C20F-45DE-9D66-4CDB33A0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B0335-8852-420D-B330-90D9C369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4F2B4-5FE2-4ADE-9A2D-4F2D96F5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BFB4A-611F-4701-A623-8C0DC9B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77F09-39FB-471D-91B2-E9A0892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B1367-FE8B-456B-9ECB-6F8235D5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66F7-02DE-4C7C-9831-F0ACC03C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8C059-A73E-4B54-8BC3-E09856F2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0142A-B756-45DA-A762-9D71F4BE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A0134-D7CE-4C01-AFA1-1D4F437F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6073-9BAF-4216-BC6A-42500368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7C6B-14D3-4BF2-A3DB-0DA8AD91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37C0-AFBB-42E4-9BAA-7F0B56B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D0E6-0126-4017-8CEE-49AE647C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3010-1A4B-45D1-B497-D455FC85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A583-0F93-4C7D-93D3-8D0F64A8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B9E-34C0-45CE-9638-BEB47424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7CCF-7185-4E43-B66A-AEC3E4E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AC21-1151-4183-B148-92DA369F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66CD-B400-451C-949E-A06AB10E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70DA-EE51-4996-9476-25854041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C717-FB92-439E-A3C5-A18DD0F5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37C1-4B6C-4C81-85E9-203EB517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D7822-8FD0-4786-A6DF-D024264F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F588-9D7E-437D-85D7-CA50ECF8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9408-D10F-4CF1-BBE2-E77EDFFE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08F0-FFEF-4F68-9465-F62AAB2C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75C-F481-401A-A443-D16BAED9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B730-DD06-4EC4-A0AB-6AA47E1E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D8004-E224-47DF-BE57-ED22CF5D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A69D-5A1D-4B91-9D1E-D8D0B12D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B88F-5851-45E8-AEF6-FB378409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71A6-FD9B-42EF-ABB0-26B52C64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22E2-0B9D-4765-BD55-AF47D82C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49D6-F174-419E-94D5-3FF09D33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24BD-EDB0-4AC6-8CD4-FB2113EE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52CB-9306-4A37-B093-A89299B4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80531-5B89-4868-B1A5-EAF1C89C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C82-D5E2-4ABB-928B-31C4C639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D056-AC27-4964-B746-68446276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3D42A-4E01-4A6A-9A2A-DCE78603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25EC5-11F9-4F3D-B3C0-C7F4DC26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5926-B22A-41FE-AC7A-EDC2EFD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74E6-87E7-4E7E-83CA-6DEE8D6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CF3A0-E0A4-4103-A110-5A124E15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1401-CE30-41DA-BABF-7A1FE38D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9962-8CD4-4A07-842C-0187D863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59183-E45A-4759-9EBF-E192073B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CCAF-D017-4E3F-900D-D5C7BE92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484-CE54-4156-824B-FE1361C0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4ED4D-B257-4580-8922-C3ADF7F4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D5AD-6CEC-46D2-A2DD-5703B08C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53BA-C62B-4EF3-B91C-507DB7B3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A628B-FD3E-440F-9686-B51D2BEF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967D1-89F6-4800-9B33-C774D06B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89BF-66EF-492A-B6B1-D43FC048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61EF6-CADC-48FA-921B-23703D3D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5CD61-A83E-403A-8CC9-EC0B28F1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62851-9A31-4DD4-AA64-3CB5D4CD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AC2A5-6A7B-4189-98A5-7C5D8266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168-CDE5-4735-9BE7-71D25877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0715-8BED-41F6-9823-54CF9435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E931F-B577-41CA-87FC-E57E4C59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9C972-5168-4F66-A574-8074C89B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4E181-F351-435C-B34D-D64555FD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71CE6-622F-4132-891E-014EFC72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85B8E-29A6-47F2-83CF-DB3DEADF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CCD5E-5C59-4DFA-AEBF-EA334CAF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E2A25-E759-48F2-8C18-8E05171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CE961-E086-455A-92F1-2FABEBA8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2C817-3516-4F82-AD7D-8BE2A431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FEC-5A5E-4036-AD35-DF41FB0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6D3BF-7655-4171-B95F-CD591DFA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C837-CA69-4941-BC03-085A6189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A7063-745D-4A1E-BFCA-74CF7F9E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88092-9FC4-4720-AD0F-F81E062F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3436F-CD48-4F60-90E8-25DFD12A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8B10E-564E-4CD9-AAD1-53F3F1D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60778-2CAE-47A7-B581-AD2AD5DC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8600D-929C-4AB2-8386-4B8F4651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0B8BC-2E02-4C0E-BB79-133C53B1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B4CA8-ED76-4287-B3E2-3C424486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5D3-A827-43C8-88E8-A33DAB87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72D54-6613-4795-A40A-9AF43A4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B023F-D258-4049-BA49-6999CE34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DCAB-10F0-4AE7-A674-E1F0F3B5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4DEA0-A8AF-45AB-AFE2-EAD0B79C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04FE5-047C-4838-9882-A165C17E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FA336-6D72-47EF-8F6E-7DA39FE6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34C04-08B2-47D4-B978-1E576415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4B288-5191-44B5-8644-08F9A72B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A5AAB-4148-46E2-8626-A5889BD3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89673-CEEC-4F74-9F57-5BF0E3F9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C56-2E8C-477F-93F7-5ED121E7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38FC2-D9B0-49CB-AE43-CF0F1D0A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69C3E-5107-4CAC-9DC4-85D73E9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B5D11-CC18-4A5E-95FA-283F0518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1DBF0-BCA9-47CF-882E-E04676C7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D7D0B-E485-4DC1-8F87-CB05F563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6C350-9362-4778-BD63-F9F7E073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F98E7-2B81-4513-BD5B-85803A1A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D9EC8-EC1A-447D-86E4-ECD26C82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009FE-F403-4288-ABEC-058BF978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8E487-54A2-4178-BF22-70EB8C70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DCB691A2-6397-4130-AC5C-A0EE93619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3A1CBCD1-FE2E-4A4F-849C-7F1A493BB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20FCE2E1-D1C9-49F0-A176-18291549F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333C74C4-FBFC-4D4F-B10C-82450A630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66C01C5B-2631-4C72-94F5-803F9E17C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7751AC75-7C1A-4988-AF87-FBC10B1D2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F988D62-C706-4AFC-9FB2-82A7E9363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6DA421E4-63FF-4253-B674-26FEC3E90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55319ABC-E976-4861-8218-9D62D6DBE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04F6EA38-5085-4E09-806D-651146E1F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D76541E-D8AF-4A0C-8DC4-E2A53274B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sp>
        <p:nvSpPr>
          <p:cNvPr id="515" name="Rectangle 3"/>
          <p:cNvSpPr/>
          <p:nvPr/>
        </p:nvSpPr>
        <p:spPr>
          <a:xfrm>
            <a:off x="725400" y="4311720"/>
            <a:ext cx="7678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° Repar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54080" y="6427800"/>
            <a:ext cx="2473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5560" algn="ctr">
              <a:spcBef>
                <a:spcPts val="3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Arial"/>
              </a:rPr>
              <a:t>Roma, 30-31 ottobre 201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-14400" y="4871880"/>
            <a:ext cx="9172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Progetto di Riordino dello Strumento Militare Naziona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99"/>
                </a:solidFill>
                <a:latin typeface="Arial"/>
              </a:rPr>
              <a:t>INCONTRO CON I RAPPRESENTANTI NAZIONALI DELLE OO.S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GIÀ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26920" y="1446120"/>
          <a:ext cx="7643880" cy="3206880"/>
        </p:xfrm>
        <a:graphic>
          <a:graphicData uri="http://schemas.openxmlformats.org/drawingml/2006/table">
            <a:tbl>
              <a:tblPr/>
              <a:tblGrid>
                <a:gridCol w="1641600"/>
                <a:gridCol w="1859040"/>
                <a:gridCol w="1143000"/>
                <a:gridCol w="1428840"/>
                <a:gridCol w="1571400"/>
              </a:tblGrid>
              <a:tr h="7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° RMV SIGONEL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CONFIGURAZIONE MANUTENZIONE ALTRI SISTEMI D’AR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OSPE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IGENZA DI RICONVERSIONE PROFESSIONA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G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L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DIMENSIONAMENTO/RILOCAZIONE (2020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ATTIVAZIONE FASE  REIMPIEGO ALL’ATTO DELLA AUTORIZZAZIONE ALLA RILOC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666720" y="3710160"/>
            <a:ext cx="80010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 marL="1619280" indent="-1619280">
              <a:spcBef>
                <a:spcPts val="1250"/>
              </a:spcBef>
              <a:tabLst>
                <a:tab algn="l" pos="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osto 2012 : trasmissione allo SMD dell’elenco aggiornato dei provvedimenti da attuars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3"/>
          <p:cNvSpPr/>
          <p:nvPr/>
        </p:nvSpPr>
        <p:spPr>
          <a:xfrm>
            <a:off x="1143000" y="1433520"/>
            <a:ext cx="700092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just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PROVVEDIMENTI  REVISIONE STRUMENTO MILIT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012/201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34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(ELEMENTI DI ORGANIZZAZIONE CON PP.OO. PERSONALE CIVIL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500040" y="771480"/>
          <a:ext cx="8072640" cy="330984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BARI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O SEDIM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O SEDIME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MILAN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DI CORP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POL. POZZUOLI* (sedi di Pozzuoli, Caserta, Capodichin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I SEDIM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6-0-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I SEDIMI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. SANITARIA D’APPELLO – ROMA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00040" y="4362480"/>
          <a:ext cx="8072640" cy="135252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 STD VENEZ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IN FASE ELABO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 STD FINALE LIGU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ALBENGA DELLA DITTA PIAGGI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/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8" name="CasellaDiTesto 2"/>
          <p:cNvSpPr/>
          <p:nvPr/>
        </p:nvSpPr>
        <p:spPr>
          <a:xfrm>
            <a:off x="441360" y="40766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ATTUATIVI DAL 1° NOVEMBRE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00040" y="1004760"/>
          <a:ext cx="8072640" cy="32004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REZ. AMM.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ROMA PAL.A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FF.DISTACC COMM.TO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UFF REP AMMINIST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CIAMPIN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REPARTO GENIO MILA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00040" y="4330800"/>
          <a:ext cx="8072640" cy="11700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° GrRAM POGGIO BALL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4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D.C. MONTEROTOND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GUIDON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00040" y="907920"/>
          <a:ext cx="8072640" cy="39942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DC GALLAR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DELLE FUNZIONI AL 1° RMV 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°STORMO PIAC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STORMO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VIS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UPPO RIFORNIMENTI TORRICO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41440" y="809640"/>
          <a:ext cx="8072280" cy="14637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280"/>
                <a:gridCol w="1500480"/>
                <a:gridCol w="17143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zio Amministrati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MBIO DIPEND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l Comando Aeroporto al COMA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TENIMENTO PRESSO ARTICOL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546120" y="2505240"/>
          <a:ext cx="8072280" cy="1098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321444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PV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ITU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O SOVRAORDINATO AL COMANDO AEROPORTO CAMERI E AL 1° RM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549360" y="3762360"/>
          <a:ext cx="8072280" cy="1773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608120"/>
                <a:gridCol w="1606320"/>
              </a:tblGrid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NSR MONTE CA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. TLC CIAMP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00040" y="1127160"/>
          <a:ext cx="8072640" cy="4487760"/>
        </p:xfrm>
        <a:graphic>
          <a:graphicData uri="http://schemas.openxmlformats.org/drawingml/2006/table">
            <a:tbl>
              <a:tblPr/>
              <a:tblGrid>
                <a:gridCol w="2328840"/>
                <a:gridCol w="1940040"/>
                <a:gridCol w="1241280"/>
                <a:gridCol w="1243080"/>
                <a:gridCol w="1319400"/>
              </a:tblGrid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Mostre - Roma Urb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GNA DI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PANTELLE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SMISTAMENTO AREA NORD BAGGI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EROP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NI SARZ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SVZ TEC.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IONAL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SVZ TEC. DIST. TOR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CLEO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AL 1° NOVEMBRE 2012. FUNZIONI RILOCATE AL 1° RMV CAME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4"/>
          <p:cNvSpPr/>
          <p:nvPr/>
        </p:nvSpPr>
        <p:spPr>
          <a:xfrm>
            <a:off x="1042920" y="5713560"/>
            <a:ext cx="1603440" cy="457200"/>
          </a:xfrm>
          <a:prstGeom prst="rightArrow">
            <a:avLst>
              <a:gd name="adj1" fmla="val 50000"/>
              <a:gd name="adj2" fmla="val 8767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4"/>
          <p:cNvSpPr/>
          <p:nvPr/>
        </p:nvSpPr>
        <p:spPr>
          <a:xfrm rot="5400000">
            <a:off x="4697640" y="3373920"/>
            <a:ext cx="442800" cy="552600"/>
          </a:xfrm>
          <a:prstGeom prst="rightArrow">
            <a:avLst>
              <a:gd name="adj1" fmla="val 50000"/>
              <a:gd name="adj2" fmla="val 5929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632600" y="4221000"/>
            <a:ext cx="660600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IPOTESI NUOVA QUOTA AM = DA DEFIN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979640" y="1700280"/>
            <a:ext cx="5977080" cy="1510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a2dc"/>
                </a:solidFill>
                <a:latin typeface="Arial"/>
              </a:rPr>
              <a:t>Quota dotazioni organiche ipotizzata AM 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4.48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prima della norma “spending review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2676960" y="5734080"/>
            <a:ext cx="499032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F.E.O.  A.M. al 29 ott 2012 = 4.42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>
            <a:off x="642960" y="20131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2508480" y="1785960"/>
            <a:ext cx="56718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Avvio studi definizione/ottimizz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dei moduli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195640" y="2924280"/>
            <a:ext cx="480528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evisione TOO già avvi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Tenendo pres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4"/>
          <p:cNvSpPr/>
          <p:nvPr/>
        </p:nvSpPr>
        <p:spPr>
          <a:xfrm rot="5400000">
            <a:off x="2465640" y="4021560"/>
            <a:ext cx="442800" cy="55260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16000" y="4869000"/>
            <a:ext cx="2608200" cy="86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vaca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e non funzion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4"/>
          <p:cNvSpPr/>
          <p:nvPr/>
        </p:nvSpPr>
        <p:spPr>
          <a:xfrm rot="5400000">
            <a:off x="6571440" y="3950640"/>
            <a:ext cx="442800" cy="55224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5512680" y="4653000"/>
            <a:ext cx="2620800" cy="128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non funz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nel disegn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ordinativo futu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865600" y="2637000"/>
            <a:ext cx="4227480" cy="1288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Circolare ordinativ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ggiornamento TOO 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l 30 giugno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SCOPO DELLA RIUN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tangolo 3"/>
          <p:cNvSpPr/>
          <p:nvPr/>
        </p:nvSpPr>
        <p:spPr>
          <a:xfrm>
            <a:off x="826920" y="1628640"/>
            <a:ext cx="770580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formare le OO.SS. circa il progetto di riordino dell’AM, in senso riduttivo, indicando i possibili provvedimenti da adottare nel periodo 2012-201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llustrare e aggiornare sulle linee di indirizzo per l’impiego del personale civile anche alla luce delle nuove dotazioni organiche in via di defini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4"/>
          <p:cNvSpPr/>
          <p:nvPr/>
        </p:nvSpPr>
        <p:spPr>
          <a:xfrm>
            <a:off x="571680" y="26449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425320" y="2631960"/>
            <a:ext cx="572364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Mantenimento/riduzione attuale F.E.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571680" y="37018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453040" y="3703680"/>
            <a:ext cx="54522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ivilegiare professionalità pregi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area tec.-manutentiva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pic>
        <p:nvPicPr>
          <p:cNvPr id="585" name="Rettangolo 6" descr=""/>
          <p:cNvPicPr/>
          <p:nvPr/>
        </p:nvPicPr>
        <p:blipFill>
          <a:blip r:embed="rId3"/>
          <a:stretch/>
        </p:blipFill>
        <p:spPr>
          <a:xfrm>
            <a:off x="743040" y="4376880"/>
            <a:ext cx="7657920" cy="159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ttangolo 3"/>
          <p:cNvSpPr/>
          <p:nvPr/>
        </p:nvSpPr>
        <p:spPr>
          <a:xfrm>
            <a:off x="611280" y="1285920"/>
            <a:ext cx="816444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trodu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Status Riordi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ovvedimenti da attu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Linee di indirizzo sull’ordinamento e impiego del personale civ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Conclus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INTRODUZ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2000160" y="1643040"/>
            <a:ext cx="521496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IORGANIZZAZIONE DIF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 rot="17529600">
            <a:off x="2819160" y="2487240"/>
            <a:ext cx="627120" cy="550800"/>
          </a:xfrm>
          <a:prstGeom prst="rightArrow">
            <a:avLst>
              <a:gd name="adj1" fmla="val 50000"/>
              <a:gd name="adj2" fmla="val 6731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642960" y="3514680"/>
            <a:ext cx="2608200" cy="1136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ovvedimenti già inseriti nel  D.Lgs. 253/’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4"/>
          <p:cNvSpPr/>
          <p:nvPr/>
        </p:nvSpPr>
        <p:spPr>
          <a:xfrm rot="14589000">
            <a:off x="5387760" y="2406240"/>
            <a:ext cx="627120" cy="551160"/>
          </a:xfrm>
          <a:prstGeom prst="rightArrow">
            <a:avLst>
              <a:gd name="adj1" fmla="val 50000"/>
              <a:gd name="adj2" fmla="val 6726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286240" y="3300480"/>
            <a:ext cx="3286440" cy="20570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.D.L. reca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elega al Governo per la revisione de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strumento militare nazional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ttangolo 6"/>
          <p:cNvSpPr/>
          <p:nvPr/>
        </p:nvSpPr>
        <p:spPr>
          <a:xfrm>
            <a:off x="357120" y="14288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601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AGGIORNAMENTO PROVVEDIMENTI  AVVIATI DAL D.LGS 253/05  e </a:t>
            </a:r>
            <a:r>
              <a:rPr b="1" i="1" lang="it-IT" sz="2400" spc="-1" strike="noStrike">
                <a:solidFill>
                  <a:srgbClr val="00cc00"/>
                </a:solidFill>
                <a:latin typeface="Arial"/>
              </a:rPr>
              <a:t>ATTUA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ttangolo 7"/>
          <p:cNvSpPr/>
          <p:nvPr/>
        </p:nvSpPr>
        <p:spPr>
          <a:xfrm>
            <a:off x="1214280" y="2527200"/>
            <a:ext cx="6858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2° GrRAM Otra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4° GrRAM Siracu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ttangolo 6"/>
          <p:cNvSpPr/>
          <p:nvPr/>
        </p:nvSpPr>
        <p:spPr>
          <a:xfrm>
            <a:off x="357120" y="1428840"/>
            <a:ext cx="8501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AGGIORNAMENTO PROVVEDIMENTI  AVVIATI DAL D.LGS.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(già partecipati alle OO.SS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ttangolo 7"/>
          <p:cNvSpPr/>
          <p:nvPr/>
        </p:nvSpPr>
        <p:spPr>
          <a:xfrm>
            <a:off x="1214280" y="2786040"/>
            <a:ext cx="68580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El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Brindis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1° RMV Sigonell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° GMA Forlì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4° Deposito Centrale Moden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DAL DLGS 253/05  E ATTUA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714240" y="2381400"/>
          <a:ext cx="7858440" cy="1984320"/>
        </p:xfrm>
        <a:graphic>
          <a:graphicData uri="http://schemas.openxmlformats.org/drawingml/2006/table">
            <a:tbl>
              <a:tblPr/>
              <a:tblGrid>
                <a:gridCol w="1627200"/>
                <a:gridCol w="1841760"/>
                <a:gridCol w="1274760"/>
                <a:gridCol w="1608120"/>
                <a:gridCol w="150660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 EFFETTU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° GrRAM Otra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IN DISTACCAMENTO AM E IN Sq.R.R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già attuat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DI REIMPIEGO OPERATIVO DAL 01/07/2012 nei nuovi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° GrRAM Siracu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55640" y="1714680"/>
          <a:ext cx="7858080" cy="2579400"/>
        </p:xfrm>
        <a:graphic>
          <a:graphicData uri="http://schemas.openxmlformats.org/drawingml/2006/table">
            <a:tbl>
              <a:tblPr/>
              <a:tblGrid>
                <a:gridCol w="1671480"/>
                <a:gridCol w="1785960"/>
                <a:gridCol w="1285920"/>
                <a:gridCol w="1571760"/>
                <a:gridCol w="15429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GRUPPO RIFORN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EL D’ANNONE (AT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 (in aspettativ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ATTAZIONE EFFETTUATA NEL  2008.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LPERSONALE VIENE TRASFERITO ALL’ATTO DELLA CHIUS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GRUPPO  RIFORNIMENTI VIZZINI (S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84360" y="981000"/>
          <a:ext cx="8137440" cy="4253040"/>
        </p:xfrm>
        <a:graphic>
          <a:graphicData uri="http://schemas.openxmlformats.org/drawingml/2006/table">
            <a:tbl>
              <a:tblPr/>
              <a:tblGrid>
                <a:gridCol w="1714320"/>
                <a:gridCol w="1943280"/>
                <a:gridCol w="1344600"/>
                <a:gridCol w="1622160"/>
                <a:gridCol w="1513080"/>
              </a:tblGrid>
              <a:tr h="76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° D.C. MODE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REIMPIEGO APPROVAZIONE POLIT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ELMA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GRADUALE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/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ERTAZIONE PREVISTA NOVEMBRE 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BRINDIS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 DELL’ATTUALE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E IMPIEGO NELL’EDO RIDIMENSIONA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9:13:27Z</dcterms:created>
  <dc:creator>smelzoe</dc:creator>
  <dc:description/>
  <dc:language>en-US</dc:language>
  <cp:lastModifiedBy>genovesea</cp:lastModifiedBy>
  <dcterms:modified xsi:type="dcterms:W3CDTF">2012-11-22T11:55:42Z</dcterms:modified>
  <cp:revision>796</cp:revision>
  <dc:subject/>
  <dc:title>Diapositiva 1</dc:title>
</cp:coreProperties>
</file>